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1.jpeg" ContentType="image/jpeg"/>
  <Override PartName="/ppt/media/image2.wmf" ContentType="image/x-wmf"/>
  <Override PartName="/ppt/media/camera.wav" ContentType="audio/x-wav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15.jpeg" ContentType="image/jpeg"/>
  <Override PartName="/ppt/media/image3.wmf" ContentType="image/x-wmf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11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9.jpeg" ContentType="image/jpeg"/>
  <Override PartName="/ppt/media/image48.png" ContentType="image/png"/>
  <Override PartName="/ppt/media/image37.jpeg" ContentType="image/jpeg"/>
  <Override PartName="/ppt/media/image5.jpeg" ContentType="image/jpeg"/>
  <Override PartName="/ppt/media/image50.png" ContentType="image/png"/>
  <Override PartName="/ppt/media/image36.png" ContentType="image/pn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34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5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1D03-FA98-4A85-85F1-BCFDF530C6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BCA2-9591-45DE-97BB-CADB5A5A3F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人都可能感染艾滋病，每个人都可以避免艾滋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在之后的定期随访中，小伟很不愿意配合，因为他觉得这是对大哥哥的背叛。过了一年多，从小伟妈妈的口中得知小伟没有上学，而是到外地去打工了，言语中透露自己得了病就得了，最多是传染给别人。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6C4C7-A322-41F3-8FEA-AA6277B2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9E227-60F2-489D-98FA-754A5FD2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62BFB-7823-4253-9A4C-13EB9D54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85D25-5681-4AE1-9AD1-EBB3AF44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A8E0A-B8AB-4153-994A-9C65930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2720B-CA87-4B11-AD64-E1D4AF0A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85DC8-515B-4477-9C47-BFEE4290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34026-5460-4EBB-AE2A-87FAA399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9A9A6-2DEC-4365-94AF-04F420CA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886B2-30C9-4A96-A470-F6BC0B08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54E38-DA14-4F52-8F33-6120653B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C79CA-3077-4CD7-A92D-243FCE55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3493B-815A-46F6-9441-5B693D44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E5E0F-1DF9-44A3-B356-2E4599C7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34C93-C540-4700-874A-2E9047AE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DDE81-9431-4273-BC8C-BB2872CD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4ACA2-9BF9-4297-8A1B-6D96AE83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A6904-8A3E-4C33-A52C-E36D10AC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40A14-DBAE-46EE-BA84-41315B27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A7275-E9A8-453C-A4BA-4E45298F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3A709-BD4C-4764-9740-05C9715E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2BEC0-7209-4E99-94EA-236497D3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C5587-64C0-4145-B3EF-375136E8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DCFD4-C117-43DC-8334-252B041F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5E608-0531-42E5-B4A3-7053FF2B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8C334-AFA9-4B37-BDBD-50FB0483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40B12-A3E7-4315-93AA-0464AD7B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5ECFE-0444-43AD-AF9B-A0DA9E86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92653-FEB3-4DA5-AF14-53B5E321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5155A-7DCB-42BC-A426-771FEAF5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3E6-5BD0-4218-918F-6815CD60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07E95-472F-4E70-A8C6-2132EBF9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E26B6-A5CB-47D7-A261-06470DC9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78AFA-BB2C-46CE-B815-D7CF5BC2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C7D55-1838-40C2-BE25-CAE5280D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37867-DD34-46B5-B71A-C0C533BB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B2381-D23C-4E31-8738-15F8BD7C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A4698-15F2-4B82-85AC-C7F6725D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6054E-00E7-429B-90BB-F43D74FB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69938-12E0-4459-9546-258D0EDD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895FA-9441-4448-8972-57DCF209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1FC-449B-4FA4-AB5A-886C12D3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D82E3-26BF-4694-81B2-686ECFE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A92B4-E65D-489D-922B-82320B0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48D54-135C-4CF0-AA98-F00C7A77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EEFEA-2042-45C3-A66A-B948355D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B123D-4662-409D-9064-03BACA0A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F6921-549A-4EC9-A81E-986D63C7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54D66-A9AB-442E-A387-6BDC664E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2193D-9B81-404D-A6ED-F40E53F8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A0BC0-DF8C-43FF-80E8-91E07C25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368BD-6AB4-40E0-B0C6-67340707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236-2E4D-425D-B3B6-9D1C5E74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3FCAA-49B7-4EF4-96BD-5646F5C0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B7C2D-3738-408D-A76D-C432E1C3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2996A-D01C-4F06-96A8-398F06F6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EFA0A-8551-4CF7-9BF6-2F152DB7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BCC7A-A060-4B1E-981B-6F8679E6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1EF7F-AF42-4C70-8188-75564D0F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4EDCC-7EF0-4956-AABD-26BEDB44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90712-60F9-4A50-AF0D-3B00FDE3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60E81-9830-46CF-AE5D-BC9A6EC1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16712-3BAB-4B68-805A-ED65E51C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D09-CE12-46F3-B56E-8996E37A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812E2-99D8-4A34-ACE9-FA7EC892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3365D-49FD-410F-BE4A-D3EE9318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80F0E-216D-446B-94F4-E09FECA1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48274-966D-44FF-A0D4-1BB048DF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6D317-75AC-4EC4-B01F-32271CE4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53D40-F2E0-4F57-8C02-7D04BE12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E8164-15F8-4E98-B581-75D5FF8F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2FAFD-AFC4-4E11-A2DA-099602CE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09D66-B990-4FC8-ACBF-15C9C3BA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2DC2A-1870-43D3-B0B1-5B0ADF8F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BE5-E366-48BD-9CFB-BF76EE6A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4ED91-FD37-4A43-A0EF-96B764E1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4CBCD0-342F-4E02-AA80-BABA2B55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08AF1-D501-4842-A34E-26F3CF9D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A5DB6-CC6C-47F6-9F9C-A65E310A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A3C73-2207-4E07-951D-6D007038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DD4E0-2DFC-4DAF-8892-5632F1BA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6B9EE-8A7F-40AA-A496-A93092B4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2B72C-BF57-4488-A311-C69CBBBA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AFC86-5D52-4FDC-BEA3-BF45E804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5B775-857F-4F62-A431-280A22CC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0A1-28E4-4C28-8151-282FF527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95113-AC37-49B5-914B-A0E983C3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184-E61C-46BF-AD9D-634E6AE0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83C-6F6D-4E04-8A86-52D41CA1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8A9-03EB-4A55-8C17-D8A7484F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B9E-D5AB-4F7D-8CE5-CB9D8923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9E8-997C-4799-A786-2CC67357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D73-3321-4567-B5F3-E3B87B91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A2FB-09E3-413F-8A85-D1B80991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4992-016C-4655-97D7-E4BF6351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56A6-2DD7-4D42-8B39-020202CB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0946-3020-4C85-BC23-19C3738E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1872-38EB-4F00-AEA2-05B87BD3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C42D-1D4C-40E8-9CA4-C383CD13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7340-1CDD-40BA-847A-2C6F8DB7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BBB3-625E-4F6A-B7EC-F3398CD4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7D9E-E99B-4C85-BADD-38179754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2582-7310-4366-9BDB-63D5AFF8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B664-F0D6-4583-91D7-82AE3D7B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8CF9-0364-492C-961E-41CC7FA1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BE89-72BD-475B-8710-013943E0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FAE9-B771-42A0-AA8B-C5649501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D526-F150-4D7E-9079-D3EC2773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667FD-57D1-49F2-B321-CB067E6A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9A21D-2B0E-48C1-8A94-276B7C19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F628-27D7-4D6C-9FD3-99C34047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3387-760C-4E7F-9930-6DE37079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AED4-11EF-4BAC-98C9-A602D621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31DA-F7A0-476D-9267-634AF73D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403D-2728-4E6F-A998-7B5A7048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42EC-839D-4EAE-AA34-C57CC8D5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DF15-3944-4E78-94EC-EDC9D02E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F08B5-AABB-4E20-9FB6-9EF5080A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37BDA-B754-4E49-B04A-29DA5031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B0F91-9E9B-4026-9166-8F413866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EB31-438F-4AD3-ACEE-E81EF515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22877-82CF-43E6-B77C-A626159A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9934-BD31-4309-AB66-9D7D7E2D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067B3-966F-42B1-9E54-2CF453E2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07B77-8B26-4D79-B55E-0C80997D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F5B3F-2828-4E12-B9FA-75698BF2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4FD9-C472-4300-A898-F6B3C532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6652-2941-47EA-B7BF-58353875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E43A5-CBFD-4286-89C3-FDB4C302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315F2-DFD0-4B66-A66D-8791F6A5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B5BC3-C717-435D-98D0-38D1DC5F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A119D-5630-474F-B7A0-46A602C5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7398D-0BDB-4820-B4A6-D88BCC11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C0844-2190-4D6D-AA18-7AFBACA6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F7C6E-2ED1-4490-B671-010DE256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F41CC-A04D-4B37-A9E0-E35D6028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1B49C-A07E-4F24-86D8-DC517C9E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ADDD0-B5AC-432B-AD95-CCB899E2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3141F-3ADC-4A87-BE2B-59FC8166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45B5E-9922-4C0F-ADE0-A5A431BE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02A9D-6710-4E00-B363-26204CB4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EA5C5-2672-4AA5-BDB7-29AF570F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086A8-87DD-4A58-A773-585F9877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15397-FE5A-415A-8C97-D928CF22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8CB1C-8B84-4437-B2BF-F23A3902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C124-6993-4DD5-9506-820438C7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7E1F8-1585-44EB-BA8B-7B4ACFAA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22807-9207-45A7-A4E9-D799143A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35548-7623-4466-81B7-AEFF122C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C61D8-2C5D-493D-80B9-60CBDBB8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A432C-31A3-4D9D-8762-68C10BC5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7F9A0-5E36-4E56-8F3C-E9ABDCB1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DF221-BAA2-42A4-8B96-71CDB8CF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5529E-FC0F-4B0C-94BA-AF72C0A1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C8498-5D4C-488A-BAE6-5A221230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BB54B-C3CD-4220-AB5A-9F62CBCC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BE4C2-462E-4028-8895-F16B9C25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5256C-E2C0-4F8C-A344-3115C6D7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357200" y="642960"/>
            <a:ext cx="6972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36E42-3B3B-4D4F-98E3-AFBAF885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E2E1D-16F4-41BE-AD07-56B2CB3E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DA238-F53C-40DA-B276-6EC60989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9ED44-BC26-4A15-9502-D366CBA0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5BF60-E6A0-4B05-9553-146D0F4B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5274D-3C9B-4A16-ACA8-443D4078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FE81C-E3C3-4750-B6C6-233C0A86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77B0E-C84E-43B0-8D35-14DCFF43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00DC1-B520-4B69-B465-31E9B851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4D5F3-D13F-4D46-9222-D8FC261D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-100080" y="-90360"/>
            <a:ext cx="9244080" cy="4095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6"/>
          <p:cNvGrpSpPr/>
          <p:nvPr/>
        </p:nvGrpSpPr>
        <p:grpSpPr>
          <a:xfrm>
            <a:off x="108000" y="4149720"/>
            <a:ext cx="3605040" cy="476280"/>
            <a:chOff x="108000" y="4149720"/>
            <a:chExt cx="3605040" cy="476280"/>
          </a:xfrm>
        </p:grpSpPr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108000" y="4149720"/>
              <a:ext cx="9730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4"/>
            <p:cNvSpPr/>
            <p:nvPr/>
          </p:nvSpPr>
          <p:spPr>
            <a:xfrm>
              <a:off x="946080" y="4362480"/>
              <a:ext cx="2643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1162080" y="4149720"/>
              <a:ext cx="2550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402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DD7-75E3-42B9-BB11-61F8CE16C9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447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10B3-1E66-42DD-A545-DC0B5FC5C1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492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9EDC-787D-4A03-94EB-93DF85F92C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537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2E69-2D07-43D9-99AE-FF44406CA5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582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9E87-F8D4-444C-8FF1-7643C001CC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627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F359-C4A0-4DA6-9334-A2E96B3217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6200-3D91-4806-A7D8-4B5266B546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47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87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D5D0-AF51-482D-BB7B-671D8314F5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132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50F3-815B-4A66-B086-FFA93A16E1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177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5BA9-2C0D-441A-AD93-3CBFA0273A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222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EFDC-ED7E-49D5-995F-EB69ED1D2F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267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2837-8664-4AA5-AAF1-D1EB9CF181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312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8F1B-78E5-4183-B7FB-1734A8BE85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1"/>
          <p:cNvGrpSpPr/>
          <p:nvPr/>
        </p:nvGrpSpPr>
        <p:grpSpPr>
          <a:xfrm>
            <a:off x="179280" y="260280"/>
            <a:ext cx="3605400" cy="463680"/>
            <a:chOff x="179280" y="260280"/>
            <a:chExt cx="3605400" cy="463680"/>
          </a:xfrm>
        </p:grpSpPr>
        <p:pic>
          <p:nvPicPr>
            <p:cNvPr id="357" name="Picture 2" descr="CDC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9604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"/>
            <p:cNvSpPr/>
            <p:nvPr/>
          </p:nvSpPr>
          <p:spPr>
            <a:xfrm>
              <a:off x="1017360" y="473040"/>
              <a:ext cx="264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003366"/>
                  </a:solidFill>
                  <a:latin typeface="Bookman Old Style"/>
                </a:rPr>
                <a:t>XI’AN CENTER FOR DISEASE CONTROL AND PREVEN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4"/>
            <p:cNvSpPr/>
            <p:nvPr/>
          </p:nvSpPr>
          <p:spPr>
            <a:xfrm>
              <a:off x="1233360" y="260280"/>
              <a:ext cx="25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西安市疾病预防控制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2E38-099D-4563-8A07-02FE1765B7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4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青少年艾滋病预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0" y="4000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什么是艾滋病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5694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全称为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0" lang="zh-CN" sz="2600" spc="-1" strike="noStrike">
                <a:solidFill>
                  <a:srgbClr val="ff0066"/>
                </a:solidFill>
                <a:latin typeface="黑体"/>
                <a:ea typeface="黑体"/>
              </a:rPr>
              <a:t>获得性免疫缺陷综合征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黑体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cquired Immune Deficiency Syndrome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IDS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）是因感染人类免疫缺陷病毒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HIV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所致的严重细胞免疫功能缺陷、合并感染和机会性肿瘤的一种致命性传染性疾病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HIV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高度变异，无特效药物可以根治，也无有效疫苗，所以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AIDS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被称为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当代瘟疫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黑体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超级癌症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黑体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艾滋病会给学习、生活带来巨大影响。对于家庭、父母心存愧疚；需要终生规律服药；精神压力增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会缓慢破坏人的免疫系统，若不坚持规范治疗，发病后病情发展迅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后的常见症状包括：皮肤、黏膜出现感染，出现单纯疱疹、带状疱疹、血疱、淤血斑、持续性发热、肺炎、肺结核、呼吸困难、持续性腹泻、便血、肝脾肿大、并发恶性肿瘤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535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艾滋病外表上能看出来么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4" descr="05-024~1"/>
          <p:cNvPicPr/>
          <p:nvPr/>
        </p:nvPicPr>
        <p:blipFill>
          <a:blip r:embed="rId1"/>
          <a:stretch/>
        </p:blipFill>
        <p:spPr>
          <a:xfrm>
            <a:off x="826920" y="1557360"/>
            <a:ext cx="3313440" cy="2303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5" descr="U_6473~1"/>
          <p:cNvPicPr/>
          <p:nvPr/>
        </p:nvPicPr>
        <p:blipFill>
          <a:blip r:embed="rId2"/>
          <a:stretch/>
        </p:blipFill>
        <p:spPr>
          <a:xfrm>
            <a:off x="4643280" y="1557360"/>
            <a:ext cx="3673800" cy="22320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" descr="200910~1"/>
          <p:cNvPicPr/>
          <p:nvPr/>
        </p:nvPicPr>
        <p:blipFill>
          <a:blip r:embed="rId3"/>
          <a:stretch/>
        </p:blipFill>
        <p:spPr>
          <a:xfrm>
            <a:off x="826920" y="4005360"/>
            <a:ext cx="3313440" cy="23619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7" descr="U_3015~1"/>
          <p:cNvPicPr/>
          <p:nvPr/>
        </p:nvPicPr>
        <p:blipFill>
          <a:blip r:embed="rId4"/>
          <a:stretch/>
        </p:blipFill>
        <p:spPr>
          <a:xfrm>
            <a:off x="4643280" y="4005360"/>
            <a:ext cx="36388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94920" y="1052640"/>
            <a:ext cx="806436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艾滋病存在较长时间的潜伏期，艾滋病病毒感染者在发病前外表与正常人无异，决不能从一个人外表是否健康来判断其是否感染艾滋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些学生由于自控力不强、疾病预防知识匮乏，无法抵御异性或同性的引诱、哄骗，与外表健康的人发生性行为，感染艾滋病病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有极个别的艾滋病病毒感染者，出于各种原因，蓄意与他人发生无保护性行为，传播疾病，需要引起高度警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矩形 3"/>
          <p:cNvSpPr/>
          <p:nvPr/>
        </p:nvSpPr>
        <p:spPr>
          <a:xfrm>
            <a:off x="826920" y="1268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注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吸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会增加经血液感染艾滋病病毒的风险。使用新型合成毒品、醉酒会增加经性途径感染艾滋病病毒的风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性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可增加感染艾滋病病毒的风险，必须及时到正规医疗机构诊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-360" y="1928880"/>
            <a:ext cx="9001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生物学因素</a:t>
            </a: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一是直肠弹性差、黏膜较薄，容易破损；二是精液里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HIV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含量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250920" y="4143240"/>
            <a:ext cx="8893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社会和文化原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一是多个性伴侣；二是安全套使用率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Cloud"/>
          <p:cNvSpPr/>
          <p:nvPr/>
        </p:nvSpPr>
        <p:spPr>
          <a:xfrm>
            <a:off x="3714840" y="214200"/>
            <a:ext cx="5429160" cy="1630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SM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什么容易感染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HIV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1187280" y="9079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日常生活接触不会传播艾滋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8" descr="fab8a305f87f141092798304a3b3f1ad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3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3"/>
          <p:cNvSpPr/>
          <p:nvPr/>
        </p:nvSpPr>
        <p:spPr>
          <a:xfrm>
            <a:off x="395280" y="1773360"/>
            <a:ext cx="81774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520" rIns="56520" tIns="28080" bIns="28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个体刚刚感染的一段时间内，虽然感染者体内有艾滋病病毒，但血清中尚不能检测到抗体，这就是我们常说的检测窗口期。根据个体不同，此过程长短不一，通常为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2-12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周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急性感染期传染性较强。常出现的症状有发热、头痛、皮疹、腹泻等流行性感冒样症状。但是这些症状是否出现因人而异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HIV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抗体的初筛检测结果呈阳性不能确定是否感染，应尽快到具备诊断资格的医疗卫生机构进行确诊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"/>
          <p:cNvSpPr/>
          <p:nvPr/>
        </p:nvSpPr>
        <p:spPr>
          <a:xfrm>
            <a:off x="971640" y="692280"/>
            <a:ext cx="69721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什么是窗口期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国务院《艾滋病防治条例》规定，国家对个人接受自愿咨询检测的信息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完全保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疾控中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二级以上医疗机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部分社会组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2"/>
          <p:cNvSpPr/>
          <p:nvPr/>
        </p:nvSpPr>
        <p:spPr>
          <a:xfrm>
            <a:off x="971640" y="692280"/>
            <a:ext cx="69721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哪里可以做检测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" descr="C:\Users\lenovo\Desktop\2016file\艾滋病宣传册\2016年宣传素材\4f0f172f8688121393595a957eea4008.jpg"/>
          <p:cNvPicPr/>
          <p:nvPr/>
        </p:nvPicPr>
        <p:blipFill>
          <a:blip r:embed="rId1"/>
          <a:stretch/>
        </p:blipFill>
        <p:spPr>
          <a:xfrm>
            <a:off x="3348000" y="2997360"/>
            <a:ext cx="5316480" cy="28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/>
          <p:cNvSpPr/>
          <p:nvPr/>
        </p:nvSpPr>
        <p:spPr>
          <a:xfrm>
            <a:off x="971640" y="692280"/>
            <a:ext cx="69721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HIV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阳性以后怎么办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4"/>
          <p:cNvSpPr/>
          <p:nvPr/>
        </p:nvSpPr>
        <p:spPr>
          <a:xfrm>
            <a:off x="539640" y="2276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旦感染艾滋病病毒，体内病毒复制就已经开始，会逐渐损害全身多个器官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及早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够抑制病毒复制，降低上述损害的发生机会，使免疫功能恢复并保持正常水平，保持较好的身体状况，减少艾滋病病毒传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43000" y="785880"/>
            <a:ext cx="68580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情况介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在座的各位都是我们西科大学生中的佼佼者，为了你们能够拥有更美好的未来，首先拥有健康的身体和健康的生活方式是至关重要的！希望今天的讲座大家能够认真听，能够有所收获，然后将艾滋病的防治知识传播出去，让更多人受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5327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治疗方法：鸡尾酒疗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效降低病毒载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延长病人生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D4+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淋巴细胞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少机会感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7" descr="何大一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67280" y="1916280"/>
            <a:ext cx="2665440" cy="28796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8"/>
          <p:cNvSpPr/>
          <p:nvPr/>
        </p:nvSpPr>
        <p:spPr>
          <a:xfrm>
            <a:off x="5940360" y="486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何大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8" descr="7e7f790918e3a8f13ac7633a"/>
          <p:cNvPicPr/>
          <p:nvPr/>
        </p:nvPicPr>
        <p:blipFill>
          <a:blip r:embed="rId2"/>
          <a:stretch/>
        </p:blipFill>
        <p:spPr>
          <a:xfrm>
            <a:off x="500040" y="4643280"/>
            <a:ext cx="2524320" cy="18576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" descr="03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929120" y="142920"/>
            <a:ext cx="2102040" cy="16682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3_04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3286080" y="4643280"/>
            <a:ext cx="2235240" cy="1857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8" descr="4_04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7072200" y="142920"/>
            <a:ext cx="188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鸡尾酒疗法，原指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高效抗逆转录病毒治疗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HAART)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，由美籍华裔科学家何大一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96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年提出，是通过三种或三种以上的抗病毒药物联合使用来治疗艾滋病。该疗法的应用可以减少单一用药产生的抗药性，最大限度地抑制病毒的复制，使被破坏的机体免疫功能部分甚至全部恢复，从而延缓病程进展，延长患者生命，提高生活质量。该疗法把蛋白酶抑制剂与多种抗病毒的药物混合使用，从而使艾滋病得到有效的控制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C:\Users\lenovo\Desktop\2016file\艾滋病宣传册\2016年宣传素材\QQ截图20160302161757.jpg"/>
          <p:cNvPicPr/>
          <p:nvPr/>
        </p:nvPicPr>
        <p:blipFill>
          <a:blip r:embed="rId1"/>
          <a:stretch/>
        </p:blipFill>
        <p:spPr>
          <a:xfrm>
            <a:off x="0" y="3357720"/>
            <a:ext cx="3600360" cy="2684160"/>
          </a:xfrm>
          <a:prstGeom prst="rect">
            <a:avLst/>
          </a:prstGeom>
          <a:ln w="0">
            <a:noFill/>
          </a:ln>
        </p:spPr>
      </p:pic>
      <p:sp>
        <p:nvSpPr>
          <p:cNvPr id="738" name="矩形 3"/>
          <p:cNvSpPr/>
          <p:nvPr/>
        </p:nvSpPr>
        <p:spPr>
          <a:xfrm>
            <a:off x="539640" y="9079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学习掌握性健康知识，提高自我保护意识与技能，培养积极向上的生活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5" descr=""/>
          <p:cNvPicPr/>
          <p:nvPr/>
        </p:nvPicPr>
        <p:blipFill>
          <a:blip r:embed="rId2"/>
          <a:stretch/>
        </p:blipFill>
        <p:spPr>
          <a:xfrm>
            <a:off x="5435640" y="384120"/>
            <a:ext cx="3097080" cy="2260800"/>
          </a:xfrm>
          <a:prstGeom prst="rect">
            <a:avLst/>
          </a:prstGeom>
          <a:ln w="0">
            <a:noFill/>
          </a:ln>
        </p:spPr>
      </p:pic>
      <p:sp>
        <p:nvSpPr>
          <p:cNvPr id="740" name="矩形 8"/>
          <p:cNvSpPr/>
          <p:nvPr/>
        </p:nvSpPr>
        <p:spPr>
          <a:xfrm>
            <a:off x="3708360" y="299736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艾滋病目前没有疫苗可以预防，拒绝毒品、自尊自爱、遵守性道德是预防艾滋病的根本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坚持每次正确使用安全套，可有效预防艾滋病、性病的感染与传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发生在身边的故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595440" y="48704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620640" y="2143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发生在身边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序 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，我要向同学们讲述几个发生在身边的真实故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春年少的他们本应享有自由、烂漫的人生，可因为艾滋病改写了未来。他们当中有的年少无知，有的明知而故犯；有的被信任所欺骗，有的被社会黑暗所吞噬；有的痛哭流涕，悔恨不已，有的愤恨社会，自我堕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-2395440" y="1599840"/>
            <a:ext cx="9253440" cy="4824360"/>
            <a:chOff x="-2395440" y="1599840"/>
            <a:chExt cx="9253440" cy="4824360"/>
          </a:xfrm>
        </p:grpSpPr>
        <p:sp>
          <p:nvSpPr>
            <p:cNvPr id="747" name="AutoShape 3"/>
            <p:cNvSpPr/>
            <p:nvPr/>
          </p:nvSpPr>
          <p:spPr>
            <a:xfrm rot="5400000">
              <a:off x="-2422440" y="1626480"/>
              <a:ext cx="4824360" cy="4770360"/>
            </a:xfrm>
            <a:prstGeom prst="pie">
              <a:avLst/>
            </a:prstGeom>
            <a:gradFill rotWithShape="0">
              <a:gsLst>
                <a:gs pos="0">
                  <a:srgbClr val="eeece1"/>
                </a:gs>
                <a:gs pos="50000">
                  <a:srgbClr val="c5c5c5"/>
                </a:gs>
                <a:gs pos="100000">
                  <a:srgbClr val="eeece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4"/>
            <p:cNvSpPr/>
            <p:nvPr/>
          </p:nvSpPr>
          <p:spPr>
            <a:xfrm flipH="1" rot="5400000">
              <a:off x="-2028960" y="2050200"/>
              <a:ext cx="4032360" cy="3929040"/>
            </a:xfrm>
            <a:prstGeom prst="pie">
              <a:avLst/>
            </a:prstGeom>
            <a:gradFill rotWithShape="0">
              <a:gsLst>
                <a:gs pos="0">
                  <a:srgbClr val="0000ff">
                    <a:alpha val="56078"/>
                  </a:srgbClr>
                </a:gs>
                <a:gs pos="100000">
                  <a:srgbClr val="ffffff">
                    <a:alpha val="48235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Group 5"/>
            <p:cNvGrpSpPr/>
            <p:nvPr/>
          </p:nvGrpSpPr>
          <p:grpSpPr>
            <a:xfrm>
              <a:off x="1447920" y="1973160"/>
              <a:ext cx="4737240" cy="507960"/>
              <a:chOff x="1447920" y="1973160"/>
              <a:chExt cx="4737240" cy="507960"/>
            </a:xfrm>
          </p:grpSpPr>
          <p:sp>
            <p:nvSpPr>
              <p:cNvPr id="750" name="AutoShape 6"/>
              <p:cNvSpPr/>
              <p:nvPr/>
            </p:nvSpPr>
            <p:spPr>
              <a:xfrm>
                <a:off x="1765440" y="1973160"/>
                <a:ext cx="441972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cc"/>
                    </a:solidFill>
                    <a:latin typeface="黑体"/>
                  </a:rPr>
                  <a:t>事例</a:t>
                </a:r>
                <a:r>
                  <a:rPr b="1" lang="en-US" sz="2000" spc="-1" strike="noStrike">
                    <a:solidFill>
                      <a:srgbClr val="3366cc"/>
                    </a:solidFill>
                    <a:latin typeface="黑体"/>
                  </a:rPr>
                  <a:t>1</a:t>
                </a:r>
                <a:r>
                  <a:rPr b="1" lang="zh-CN" sz="2000" spc="-1" strike="noStrike">
                    <a:solidFill>
                      <a:srgbClr val="3366cc"/>
                    </a:solidFill>
                    <a:latin typeface="黑体"/>
                  </a:rPr>
                  <a:t>： 虚伪的温暖拦截了青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1" name="Group 7"/>
              <p:cNvGrpSpPr/>
              <p:nvPr/>
            </p:nvGrpSpPr>
            <p:grpSpPr>
              <a:xfrm>
                <a:off x="1447920" y="2062080"/>
                <a:ext cx="380880" cy="380880"/>
                <a:chOff x="1447920" y="2062080"/>
                <a:chExt cx="380880" cy="380880"/>
              </a:xfrm>
            </p:grpSpPr>
            <p:sp>
              <p:nvSpPr>
                <p:cNvPr id="752" name="Oval 8"/>
                <p:cNvSpPr/>
                <p:nvPr/>
              </p:nvSpPr>
              <p:spPr>
                <a:xfrm>
                  <a:off x="1447920" y="206208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9"/>
                <p:cNvSpPr/>
                <p:nvPr/>
              </p:nvSpPr>
              <p:spPr>
                <a:xfrm>
                  <a:off x="1469520" y="2083320"/>
                  <a:ext cx="33732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Oval 10"/>
                <p:cNvSpPr/>
                <p:nvPr/>
              </p:nvSpPr>
              <p:spPr>
                <a:xfrm>
                  <a:off x="1488960" y="2103120"/>
                  <a:ext cx="29844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Oval 11"/>
                <p:cNvSpPr/>
                <p:nvPr/>
              </p:nvSpPr>
              <p:spPr>
                <a:xfrm>
                  <a:off x="1489320" y="210348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cc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Oval 12"/>
                <p:cNvSpPr/>
                <p:nvPr/>
              </p:nvSpPr>
              <p:spPr>
                <a:xfrm>
                  <a:off x="1508040" y="2122200"/>
                  <a:ext cx="258840" cy="26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005353"/>
                    </a:gs>
                    <a:gs pos="100000">
                      <a:srgbClr val="0000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Oval 13"/>
                <p:cNvSpPr/>
                <p:nvPr/>
              </p:nvSpPr>
              <p:spPr>
                <a:xfrm>
                  <a:off x="1508760" y="212292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c63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8" name="Group 14"/>
            <p:cNvGrpSpPr/>
            <p:nvPr/>
          </p:nvGrpSpPr>
          <p:grpSpPr>
            <a:xfrm>
              <a:off x="1981440" y="2743200"/>
              <a:ext cx="4724280" cy="507960"/>
              <a:chOff x="1981440" y="2743200"/>
              <a:chExt cx="4724280" cy="507960"/>
            </a:xfrm>
          </p:grpSpPr>
          <p:sp>
            <p:nvSpPr>
              <p:cNvPr id="759" name="AutoShape 15"/>
              <p:cNvSpPr/>
              <p:nvPr/>
            </p:nvSpPr>
            <p:spPr>
              <a:xfrm>
                <a:off x="2286360" y="274320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cc"/>
                    </a:solidFill>
                    <a:latin typeface="黑体"/>
                  </a:rPr>
                  <a:t>事例</a:t>
                </a:r>
                <a:r>
                  <a:rPr b="1" lang="en-US" sz="2000" spc="-1" strike="noStrike">
                    <a:solidFill>
                      <a:srgbClr val="3366cc"/>
                    </a:solidFill>
                    <a:latin typeface="黑体"/>
                  </a:rPr>
                  <a:t>2</a:t>
                </a:r>
                <a:r>
                  <a:rPr b="1" lang="zh-CN" sz="2000" spc="-1" strike="noStrike">
                    <a:solidFill>
                      <a:srgbClr val="3366cc"/>
                    </a:solidFill>
                    <a:latin typeface="黑体"/>
                  </a:rPr>
                  <a:t>：</a:t>
                </a:r>
                <a:r>
                  <a:rPr b="1" lang="zh-CN" sz="2000" spc="-1" strike="noStrike">
                    <a:solidFill>
                      <a:srgbClr val="3366cc"/>
                    </a:solidFill>
                    <a:latin typeface="Calibri"/>
                  </a:rPr>
                  <a:t>“</a:t>
                </a:r>
                <a:r>
                  <a:rPr b="1" lang="zh-CN" sz="2000" spc="-1" strike="noStrike">
                    <a:solidFill>
                      <a:srgbClr val="3366cc"/>
                    </a:solidFill>
                    <a:latin typeface="黑体"/>
                  </a:rPr>
                  <a:t>我</a:t>
                </a:r>
                <a:r>
                  <a:rPr b="1" lang="zh-CN" sz="2000" spc="-1" strike="noStrike">
                    <a:solidFill>
                      <a:srgbClr val="3366cc"/>
                    </a:solidFill>
                    <a:latin typeface="Calibri"/>
                  </a:rPr>
                  <a:t>”</a:t>
                </a:r>
                <a:r>
                  <a:rPr b="1" lang="zh-CN" sz="2000" spc="-1" strike="noStrike">
                    <a:solidFill>
                      <a:srgbClr val="3366cc"/>
                    </a:solidFill>
                    <a:latin typeface="黑体"/>
                  </a:rPr>
                  <a:t>的信任却换来了疾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0" name="Group 16"/>
              <p:cNvGrpSpPr/>
              <p:nvPr/>
            </p:nvGrpSpPr>
            <p:grpSpPr>
              <a:xfrm>
                <a:off x="1981440" y="2849400"/>
                <a:ext cx="380880" cy="381240"/>
                <a:chOff x="1981440" y="2849400"/>
                <a:chExt cx="380880" cy="381240"/>
              </a:xfrm>
            </p:grpSpPr>
            <p:sp>
              <p:nvSpPr>
                <p:cNvPr id="761" name="Oval 17"/>
                <p:cNvSpPr/>
                <p:nvPr/>
              </p:nvSpPr>
              <p:spPr>
                <a:xfrm>
                  <a:off x="1981440" y="284940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Oval 18"/>
                <p:cNvSpPr/>
                <p:nvPr/>
              </p:nvSpPr>
              <p:spPr>
                <a:xfrm>
                  <a:off x="2003040" y="2870640"/>
                  <a:ext cx="33732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Oval 19"/>
                <p:cNvSpPr/>
                <p:nvPr/>
              </p:nvSpPr>
              <p:spPr>
                <a:xfrm>
                  <a:off x="2022480" y="2890440"/>
                  <a:ext cx="298440" cy="29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Oval 20"/>
                <p:cNvSpPr/>
                <p:nvPr/>
              </p:nvSpPr>
              <p:spPr>
                <a:xfrm>
                  <a:off x="2022840" y="2890800"/>
                  <a:ext cx="29772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48be6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Oval 21"/>
                <p:cNvSpPr/>
                <p:nvPr/>
              </p:nvSpPr>
              <p:spPr>
                <a:xfrm>
                  <a:off x="2041560" y="2909880"/>
                  <a:ext cx="258840" cy="2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005353"/>
                    </a:gs>
                    <a:gs pos="100000">
                      <a:srgbClr val="0000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Oval 22"/>
                <p:cNvSpPr/>
                <p:nvPr/>
              </p:nvSpPr>
              <p:spPr>
                <a:xfrm>
                  <a:off x="2042280" y="2910240"/>
                  <a:ext cx="25848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be67"/>
                    </a:gs>
                    <a:gs pos="100000">
                      <a:srgbClr val="235c32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7" name="Group 23"/>
            <p:cNvGrpSpPr/>
            <p:nvPr/>
          </p:nvGrpSpPr>
          <p:grpSpPr>
            <a:xfrm>
              <a:off x="2133720" y="3611520"/>
              <a:ext cx="4724280" cy="507960"/>
              <a:chOff x="2133720" y="3611520"/>
              <a:chExt cx="4724280" cy="507960"/>
            </a:xfrm>
          </p:grpSpPr>
          <p:sp>
            <p:nvSpPr>
              <p:cNvPr id="768" name="AutoShape 24"/>
              <p:cNvSpPr/>
              <p:nvPr/>
            </p:nvSpPr>
            <p:spPr>
              <a:xfrm>
                <a:off x="2438640" y="361152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cc"/>
                    </a:solidFill>
                    <a:latin typeface="黑体"/>
                  </a:rPr>
                  <a:t>事例</a:t>
                </a:r>
                <a:r>
                  <a:rPr b="1" lang="en-US" sz="2000" spc="-1" strike="noStrike">
                    <a:solidFill>
                      <a:srgbClr val="3366cc"/>
                    </a:solidFill>
                    <a:latin typeface="黑体"/>
                  </a:rPr>
                  <a:t>3</a:t>
                </a:r>
                <a:r>
                  <a:rPr b="1" lang="zh-CN" sz="2000" spc="-1" strike="noStrike">
                    <a:solidFill>
                      <a:srgbClr val="3366cc"/>
                    </a:solidFill>
                    <a:latin typeface="黑体"/>
                  </a:rPr>
                  <a:t>：男生同样会受到侵犯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25"/>
              <p:cNvGrpSpPr/>
              <p:nvPr/>
            </p:nvGrpSpPr>
            <p:grpSpPr>
              <a:xfrm>
                <a:off x="2133720" y="3687840"/>
                <a:ext cx="380880" cy="380880"/>
                <a:chOff x="2133720" y="3687840"/>
                <a:chExt cx="380880" cy="380880"/>
              </a:xfrm>
            </p:grpSpPr>
            <p:sp>
              <p:nvSpPr>
                <p:cNvPr id="770" name="Oval 26"/>
                <p:cNvSpPr/>
                <p:nvPr/>
              </p:nvSpPr>
              <p:spPr>
                <a:xfrm>
                  <a:off x="2133720" y="368784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Oval 27"/>
                <p:cNvSpPr/>
                <p:nvPr/>
              </p:nvSpPr>
              <p:spPr>
                <a:xfrm>
                  <a:off x="2155320" y="3709080"/>
                  <a:ext cx="33732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Oval 28"/>
                <p:cNvSpPr/>
                <p:nvPr/>
              </p:nvSpPr>
              <p:spPr>
                <a:xfrm>
                  <a:off x="2174760" y="3728880"/>
                  <a:ext cx="29844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Oval 29"/>
                <p:cNvSpPr/>
                <p:nvPr/>
              </p:nvSpPr>
              <p:spPr>
                <a:xfrm>
                  <a:off x="2175120" y="372924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b3e1"/>
                    </a:gs>
                    <a:gs pos="100000">
                      <a:srgbClr val="0f53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Oval 30"/>
                <p:cNvSpPr/>
                <p:nvPr/>
              </p:nvSpPr>
              <p:spPr>
                <a:xfrm>
                  <a:off x="2193840" y="3747960"/>
                  <a:ext cx="258840" cy="26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005353"/>
                    </a:gs>
                    <a:gs pos="100000">
                      <a:srgbClr val="0000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Oval 31"/>
                <p:cNvSpPr/>
                <p:nvPr/>
              </p:nvSpPr>
              <p:spPr>
                <a:xfrm>
                  <a:off x="2194560" y="374868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b3e1"/>
                    </a:gs>
                    <a:gs pos="100000">
                      <a:srgbClr val="10576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6" name="Group 32"/>
            <p:cNvGrpSpPr/>
            <p:nvPr/>
          </p:nvGrpSpPr>
          <p:grpSpPr>
            <a:xfrm>
              <a:off x="1981440" y="4424400"/>
              <a:ext cx="4755600" cy="507960"/>
              <a:chOff x="1981440" y="4424400"/>
              <a:chExt cx="4755600" cy="507960"/>
            </a:xfrm>
          </p:grpSpPr>
          <p:sp>
            <p:nvSpPr>
              <p:cNvPr id="777" name="AutoShape 33"/>
              <p:cNvSpPr/>
              <p:nvPr/>
            </p:nvSpPr>
            <p:spPr>
              <a:xfrm>
                <a:off x="2317680" y="442440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cc"/>
                    </a:solidFill>
                    <a:latin typeface="黑体"/>
                  </a:rPr>
                  <a:t>事例</a:t>
                </a:r>
                <a:r>
                  <a:rPr b="1" lang="en-US" sz="2000" spc="-1" strike="noStrike">
                    <a:solidFill>
                      <a:srgbClr val="3366cc"/>
                    </a:solidFill>
                    <a:latin typeface="黑体"/>
                  </a:rPr>
                  <a:t>4</a:t>
                </a:r>
                <a:r>
                  <a:rPr b="1" lang="zh-CN" sz="2000" spc="-1" strike="noStrike">
                    <a:solidFill>
                      <a:srgbClr val="3366cc"/>
                    </a:solidFill>
                    <a:latin typeface="黑体"/>
                  </a:rPr>
                  <a:t>：社交网络中的危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34"/>
              <p:cNvGrpSpPr/>
              <p:nvPr/>
            </p:nvGrpSpPr>
            <p:grpSpPr>
              <a:xfrm>
                <a:off x="1981440" y="4525920"/>
                <a:ext cx="380520" cy="381240"/>
                <a:chOff x="1981440" y="4525920"/>
                <a:chExt cx="380520" cy="381240"/>
              </a:xfrm>
            </p:grpSpPr>
            <p:sp>
              <p:nvSpPr>
                <p:cNvPr id="779" name="Oval 35"/>
                <p:cNvSpPr/>
                <p:nvPr/>
              </p:nvSpPr>
              <p:spPr>
                <a:xfrm>
                  <a:off x="1981440" y="4525920"/>
                  <a:ext cx="38052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Oval 36"/>
                <p:cNvSpPr/>
                <p:nvPr/>
              </p:nvSpPr>
              <p:spPr>
                <a:xfrm>
                  <a:off x="2003040" y="4547160"/>
                  <a:ext cx="33696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Oval 37"/>
                <p:cNvSpPr/>
                <p:nvPr/>
              </p:nvSpPr>
              <p:spPr>
                <a:xfrm>
                  <a:off x="2022480" y="4566960"/>
                  <a:ext cx="298080" cy="29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38"/>
                <p:cNvSpPr/>
                <p:nvPr/>
              </p:nvSpPr>
              <p:spPr>
                <a:xfrm>
                  <a:off x="2022840" y="456732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8d67e1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Oval 39"/>
                <p:cNvSpPr/>
                <p:nvPr/>
              </p:nvSpPr>
              <p:spPr>
                <a:xfrm>
                  <a:off x="2041560" y="4586400"/>
                  <a:ext cx="258480" cy="2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005353"/>
                    </a:gs>
                    <a:gs pos="100000">
                      <a:srgbClr val="0000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Oval 40"/>
                <p:cNvSpPr/>
                <p:nvPr/>
              </p:nvSpPr>
              <p:spPr>
                <a:xfrm>
                  <a:off x="2042280" y="458676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67e1"/>
                    </a:gs>
                    <a:gs pos="100000">
                      <a:srgbClr val="45326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5" name="Group 41"/>
            <p:cNvGrpSpPr/>
            <p:nvPr/>
          </p:nvGrpSpPr>
          <p:grpSpPr>
            <a:xfrm>
              <a:off x="1524240" y="5251320"/>
              <a:ext cx="4717440" cy="507960"/>
              <a:chOff x="1524240" y="5251320"/>
              <a:chExt cx="4717440" cy="507960"/>
            </a:xfrm>
          </p:grpSpPr>
          <p:sp>
            <p:nvSpPr>
              <p:cNvPr id="786" name="AutoShape 42"/>
              <p:cNvSpPr/>
              <p:nvPr/>
            </p:nvSpPr>
            <p:spPr>
              <a:xfrm>
                <a:off x="1822320" y="525132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cc"/>
                    </a:solidFill>
                    <a:latin typeface="黑体"/>
                  </a:rPr>
                  <a:t>事例</a:t>
                </a:r>
                <a:r>
                  <a:rPr b="1" lang="en-US" sz="2000" spc="-1" strike="noStrike">
                    <a:solidFill>
                      <a:srgbClr val="3366cc"/>
                    </a:solidFill>
                    <a:latin typeface="黑体"/>
                  </a:rPr>
                  <a:t>5</a:t>
                </a:r>
                <a:r>
                  <a:rPr b="1" lang="zh-CN" sz="2000" spc="-1" strike="noStrike">
                    <a:solidFill>
                      <a:srgbClr val="3366cc"/>
                    </a:solidFill>
                    <a:latin typeface="黑体"/>
                  </a:rPr>
                  <a:t>：一知半解陷入恐艾的深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7" name="Group 43"/>
              <p:cNvGrpSpPr/>
              <p:nvPr/>
            </p:nvGrpSpPr>
            <p:grpSpPr>
              <a:xfrm>
                <a:off x="1524240" y="5300640"/>
                <a:ext cx="355320" cy="380880"/>
                <a:chOff x="1524240" y="5300640"/>
                <a:chExt cx="355320" cy="380880"/>
              </a:xfrm>
            </p:grpSpPr>
            <p:sp>
              <p:nvSpPr>
                <p:cNvPr id="788" name="Oval 44"/>
                <p:cNvSpPr/>
                <p:nvPr/>
              </p:nvSpPr>
              <p:spPr>
                <a:xfrm>
                  <a:off x="1524240" y="5300640"/>
                  <a:ext cx="35532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Oval 45"/>
                <p:cNvSpPr/>
                <p:nvPr/>
              </p:nvSpPr>
              <p:spPr>
                <a:xfrm>
                  <a:off x="1544400" y="5321880"/>
                  <a:ext cx="31464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Oval 46"/>
                <p:cNvSpPr/>
                <p:nvPr/>
              </p:nvSpPr>
              <p:spPr>
                <a:xfrm>
                  <a:off x="1562040" y="5341680"/>
                  <a:ext cx="2775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Oval 47"/>
                <p:cNvSpPr/>
                <p:nvPr/>
              </p:nvSpPr>
              <p:spPr>
                <a:xfrm>
                  <a:off x="1562760" y="5342040"/>
                  <a:ext cx="2775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e35e2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Oval 48"/>
                <p:cNvSpPr/>
                <p:nvPr/>
              </p:nvSpPr>
              <p:spPr>
                <a:xfrm>
                  <a:off x="1581480" y="5360760"/>
                  <a:ext cx="241200" cy="26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005353"/>
                    </a:gs>
                    <a:gs pos="100000">
                      <a:srgbClr val="0000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Oval 49"/>
                <p:cNvSpPr/>
                <p:nvPr/>
              </p:nvSpPr>
              <p:spPr>
                <a:xfrm>
                  <a:off x="1581120" y="5361480"/>
                  <a:ext cx="24120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5e23"/>
                    </a:gs>
                    <a:gs pos="100000">
                      <a:srgbClr val="6e2e11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4" name="Text Box 50"/>
          <p:cNvSpPr/>
          <p:nvPr/>
        </p:nvSpPr>
        <p:spPr>
          <a:xfrm>
            <a:off x="468360" y="256536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发生在身边的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事例</a:t>
            </a:r>
            <a:r>
              <a:rPr b="1" lang="en-US" sz="2800" spc="-1" strike="noStrike">
                <a:solidFill>
                  <a:srgbClr val="3366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： 虚伪的温暖拦截了青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662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伟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高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寒假，小伟打工时认识了一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的大哥哥。大哥哥买手机、请吃饭、看电影，让单亲家庭的小伟倍感温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Picture 4" descr="456347eb5a8eac5eee3dfebd9d6423c8"/>
          <p:cNvPicPr/>
          <p:nvPr/>
        </p:nvPicPr>
        <p:blipFill>
          <a:blip r:embed="rId1"/>
          <a:stretch/>
        </p:blipFill>
        <p:spPr>
          <a:xfrm>
            <a:off x="3851280" y="4365720"/>
            <a:ext cx="1865160" cy="18493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5" descr="005CUz58zy6LeKHmCir4f"/>
          <p:cNvPicPr/>
          <p:nvPr/>
        </p:nvPicPr>
        <p:blipFill>
          <a:blip r:embed="rId2"/>
          <a:stretch/>
        </p:blipFill>
        <p:spPr>
          <a:xfrm>
            <a:off x="644364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事例</a:t>
            </a:r>
            <a:r>
              <a:rPr b="1" lang="en-US" sz="2800" spc="-1" strike="noStrike">
                <a:solidFill>
                  <a:srgbClr val="3366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： 虚伪的温暖拦截了青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考结束后，小伟出现发烧、口腔溃疡，随着母亲在医院就诊发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阳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Picture 4" descr="1343166354939_20571343155944031"/>
          <p:cNvPicPr/>
          <p:nvPr/>
        </p:nvPicPr>
        <p:blipFill>
          <a:blip r:embed="rId1"/>
          <a:stretch/>
        </p:blipFill>
        <p:spPr>
          <a:xfrm>
            <a:off x="3348000" y="3573360"/>
            <a:ext cx="3333960" cy="20671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" descr=""/>
          <p:cNvPicPr/>
          <p:nvPr/>
        </p:nvPicPr>
        <p:blipFill>
          <a:blip r:embed="rId2"/>
          <a:stretch/>
        </p:blipFill>
        <p:spPr>
          <a:xfrm>
            <a:off x="6948360" y="3500280"/>
            <a:ext cx="1808280" cy="21607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270036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事例</a:t>
            </a:r>
            <a:r>
              <a:rPr b="1" lang="en-US" sz="2800" spc="-1" strike="noStrike">
                <a:solidFill>
                  <a:srgbClr val="3366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： </a:t>
            </a:r>
            <a:r>
              <a:rPr b="1" lang="zh-CN" sz="2800" spc="-1" strike="noStrike">
                <a:solidFill>
                  <a:srgbClr val="3366cc"/>
                </a:solidFill>
                <a:latin typeface="Calibri"/>
                <a:ea typeface="黑体"/>
              </a:rPr>
              <a:t>“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3366cc"/>
                </a:solidFill>
                <a:latin typeface="Calibri"/>
                <a:ea typeface="黑体"/>
              </a:rPr>
              <a:t>”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的信任却换来了疾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文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大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女友分手后心情低落，一次好奇驱使下小文开始了与男生的交往，在学校里有几个固定的性伙伴。原以为，学生不大与社会交往，相互之间应该是干净的，因此就没有作任何防护措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6" name="Picture 4" descr="4487fc9b69f012e2ca6243"/>
          <p:cNvPicPr/>
          <p:nvPr/>
        </p:nvPicPr>
        <p:blipFill>
          <a:blip r:embed="rId1"/>
          <a:stretch/>
        </p:blipFill>
        <p:spPr>
          <a:xfrm>
            <a:off x="4788000" y="3860640"/>
            <a:ext cx="3529080" cy="23450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5" descr="113908771"/>
          <p:cNvPicPr/>
          <p:nvPr/>
        </p:nvPicPr>
        <p:blipFill>
          <a:blip r:embed="rId2"/>
          <a:stretch/>
        </p:blipFill>
        <p:spPr>
          <a:xfrm>
            <a:off x="684360" y="3933720"/>
            <a:ext cx="31780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事例</a:t>
            </a:r>
            <a:r>
              <a:rPr b="1" lang="en-US" sz="2800" spc="-1" strike="noStrike">
                <a:solidFill>
                  <a:srgbClr val="3366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： </a:t>
            </a:r>
            <a:r>
              <a:rPr b="1" lang="zh-CN" sz="2800" spc="-1" strike="noStrike">
                <a:solidFill>
                  <a:srgbClr val="3366cc"/>
                </a:solidFill>
                <a:latin typeface="Calibri"/>
                <a:ea typeface="黑体"/>
              </a:rPr>
              <a:t>“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3366cc"/>
                </a:solidFill>
                <a:latin typeface="Calibri"/>
                <a:ea typeface="黑体"/>
              </a:rPr>
              <a:t>”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的信任却换来了疾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来腹泻、体重急剧下降，他联想到学校宣传的艾滋病知识，犹豫再三，进行了抗体检查，结果呈阳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4" descr="3161282259505234"/>
          <p:cNvPicPr/>
          <p:nvPr/>
        </p:nvPicPr>
        <p:blipFill>
          <a:blip r:embed="rId1"/>
          <a:stretch/>
        </p:blipFill>
        <p:spPr>
          <a:xfrm>
            <a:off x="611280" y="2924280"/>
            <a:ext cx="1966680" cy="30686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5" descr="u=2912843658,1510755764&amp;fm=23&amp;gp=0"/>
          <p:cNvPicPr/>
          <p:nvPr/>
        </p:nvPicPr>
        <p:blipFill>
          <a:blip r:embed="rId2"/>
          <a:stretch/>
        </p:blipFill>
        <p:spPr>
          <a:xfrm>
            <a:off x="2627280" y="3645000"/>
            <a:ext cx="3048120" cy="19238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6" descr="810a19d8bc3eb135050bf569a71ea8d3fc1f4417"/>
          <p:cNvPicPr/>
          <p:nvPr/>
        </p:nvPicPr>
        <p:blipFill>
          <a:blip r:embed="rId3"/>
          <a:stretch/>
        </p:blipFill>
        <p:spPr>
          <a:xfrm>
            <a:off x="6156360" y="3500280"/>
            <a:ext cx="2577960" cy="21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腾讯新闻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年，国内省城高校出现第一例学生“染艾者”，特别是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年起，学生“染艾”人数迅速增加，最小的只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日前，南昌市疾控中心公布数据显示，近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年来，青年学生艾滋病疫情年增长率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3.16%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学生艾滋病感染者同性性传播占超过八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◎高校染艾者八成源于“好基友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日，南昌市疾控中心发布通告称，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月底，南昌全市已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7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所高校报告艾滋病感染者或病人，共报告存活学生艾滋病感染者和病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例，死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例。同时，近年来南昌市青年学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V/AID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病例快速增加，近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年疫情年增长率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3.16%;2011~201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年新发学生病例中，男男同性性传播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3.61%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同性性传播已成为青年学生感染艾滋病的主要途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事例</a:t>
            </a:r>
            <a:r>
              <a:rPr b="1" lang="en-US" sz="2800" spc="-1" strike="noStrike">
                <a:solidFill>
                  <a:srgbClr val="3366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： </a:t>
            </a:r>
            <a:r>
              <a:rPr b="1" lang="zh-CN" sz="2800" spc="-1" strike="noStrike">
                <a:solidFill>
                  <a:srgbClr val="3366cc"/>
                </a:solidFill>
                <a:latin typeface="Calibri"/>
                <a:ea typeface="黑体"/>
              </a:rPr>
              <a:t>“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3366cc"/>
                </a:solidFill>
                <a:latin typeface="Calibri"/>
                <a:ea typeface="黑体"/>
              </a:rPr>
              <a:t>”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的信任却换来了疾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文说，自己要成为志愿者，告诉同学们不抱任何侥幸心理，保护好自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5" name="Picture 4" descr="U1567P1T1D11665190F21DT20061130160657"/>
          <p:cNvPicPr/>
          <p:nvPr/>
        </p:nvPicPr>
        <p:blipFill>
          <a:blip r:embed="rId1"/>
          <a:stretch/>
        </p:blipFill>
        <p:spPr>
          <a:xfrm>
            <a:off x="2627280" y="3068640"/>
            <a:ext cx="42861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事例</a:t>
            </a:r>
            <a:r>
              <a:rPr b="1" lang="en-US" sz="2800" spc="-1" strike="noStrike">
                <a:solidFill>
                  <a:srgbClr val="3366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：男生同样会受到侵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易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硕士毕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春节前的一个夜晚，小易和老乡喝了些酒，回家路上遭遇了三名年轻男子的侵犯。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8" name="Picture 4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849320" cy="22860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b8ca3a9d5e3c13801a251e"/>
          <p:cNvPicPr/>
          <p:nvPr/>
        </p:nvPicPr>
        <p:blipFill>
          <a:blip r:embed="rId2"/>
          <a:stretch/>
        </p:blipFill>
        <p:spPr>
          <a:xfrm>
            <a:off x="1116000" y="4076640"/>
            <a:ext cx="2736720" cy="211608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6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1325520" cy="163836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7" descr=""/>
          <p:cNvPicPr/>
          <p:nvPr/>
        </p:nvPicPr>
        <p:blipFill>
          <a:blip r:embed="rId4"/>
          <a:stretch/>
        </p:blipFill>
        <p:spPr>
          <a:xfrm>
            <a:off x="4859280" y="5157720"/>
            <a:ext cx="1143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事例</a:t>
            </a:r>
            <a:r>
              <a:rPr b="1" lang="en-US" sz="2800" spc="-1" strike="noStrike">
                <a:solidFill>
                  <a:srgbClr val="3366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：男生同样会受到侵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入职体检提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疑，小易在女友的陪伴下来到了疾控中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担心自己会将病毒传染给女友，他担心因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而丢了工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不容易硕士毕业找了个好工作，可以报答父母了，结果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4" name="Picture 4" descr="24242_~1"/>
          <p:cNvPicPr/>
          <p:nvPr/>
        </p:nvPicPr>
        <p:blipFill>
          <a:blip r:embed="rId1"/>
          <a:stretch/>
        </p:blipFill>
        <p:spPr>
          <a:xfrm>
            <a:off x="6156360" y="4508640"/>
            <a:ext cx="27385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事例</a:t>
            </a:r>
            <a:r>
              <a:rPr b="1" lang="en-US" sz="2800" spc="-1" strike="noStrike">
                <a:solidFill>
                  <a:srgbClr val="3366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：社交网络中的危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刘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大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微信认识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组织唱歌。到了包间，只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逐渐凶相毕露，威胁小刘与其发生性关系，否则休想离开。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Picture 4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7450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事例</a:t>
            </a:r>
            <a:r>
              <a:rPr b="1" lang="en-US" sz="2800" spc="-1" strike="noStrike">
                <a:solidFill>
                  <a:srgbClr val="3366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：社交网络中的危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611280" y="1989000"/>
            <a:ext cx="583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最近半个月来小刘高烧不退，先是被诊断肺炎，后经医生建议查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IV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阳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4" descr="u=1731217582,464869373&amp;fm=23&amp;gp=0"/>
          <p:cNvPicPr/>
          <p:nvPr/>
        </p:nvPicPr>
        <p:blipFill>
          <a:blip r:embed="rId1"/>
          <a:stretch/>
        </p:blipFill>
        <p:spPr>
          <a:xfrm>
            <a:off x="6732720" y="1628640"/>
            <a:ext cx="1812960" cy="1812960"/>
          </a:xfrm>
          <a:prstGeom prst="rect">
            <a:avLst/>
          </a:prstGeom>
          <a:ln w="0">
            <a:noFill/>
          </a:ln>
        </p:spPr>
      </p:pic>
      <p:sp>
        <p:nvSpPr>
          <p:cNvPr id="831" name="Text Box 5"/>
          <p:cNvSpPr/>
          <p:nvPr/>
        </p:nvSpPr>
        <p:spPr>
          <a:xfrm>
            <a:off x="3276720" y="4076640"/>
            <a:ext cx="54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Q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群、手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等便捷的交友软件暗藏危险。许多人感染都不明白是被谁传染的。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6" descr="1-1301~1"/>
          <p:cNvPicPr/>
          <p:nvPr/>
        </p:nvPicPr>
        <p:blipFill>
          <a:blip r:embed="rId2"/>
          <a:stretch/>
        </p:blipFill>
        <p:spPr>
          <a:xfrm>
            <a:off x="468360" y="3716280"/>
            <a:ext cx="234936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事例</a:t>
            </a:r>
            <a:r>
              <a:rPr b="1" lang="en-US" sz="2800" spc="-1" strike="noStrike">
                <a:solidFill>
                  <a:srgbClr val="3366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：一知半解陷入恐艾的深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大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初与小姐发生无套口交，有套性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Picture 4" descr="8270959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31640" y="907920"/>
            <a:ext cx="69721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事例</a:t>
            </a:r>
            <a:r>
              <a:rPr b="1" lang="en-US" sz="2800" spc="-1" strike="noStrike">
                <a:solidFill>
                  <a:srgbClr val="3366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：一知半解陷入恐艾的深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17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买试剂担心操作不当或试剂不干净、判断不准，      医院检测担心仪器精密度不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8" name="Picture 4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33847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357200" y="764640"/>
            <a:ext cx="69724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艾滋病带来的伤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敏感不是每个父母都能接受，许多感染者要用一生去隐瞒。有的人面对催婚的压力，选择形婚；有的人为了传宗接代，立马结婚生子。如果不做好防护，就意味着艾滋病毒会侵入家庭，殃及下一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Picture 4" descr="18a905d9c7cb0f6cc57f14"/>
          <p:cNvPicPr/>
          <p:nvPr/>
        </p:nvPicPr>
        <p:blipFill>
          <a:blip r:embed="rId1"/>
          <a:stretch/>
        </p:blipFill>
        <p:spPr>
          <a:xfrm>
            <a:off x="971640" y="4076640"/>
            <a:ext cx="2278080" cy="25210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5" descr=""/>
          <p:cNvPicPr/>
          <p:nvPr/>
        </p:nvPicPr>
        <p:blipFill>
          <a:blip r:embed="rId2"/>
          <a:stretch/>
        </p:blipFill>
        <p:spPr>
          <a:xfrm>
            <a:off x="4140360" y="4076640"/>
            <a:ext cx="1817640" cy="25290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6" descr="F201111300948259966600000"/>
          <p:cNvPicPr/>
          <p:nvPr/>
        </p:nvPicPr>
        <p:blipFill>
          <a:blip r:embed="rId3"/>
          <a:stretch/>
        </p:blipFill>
        <p:spPr>
          <a:xfrm>
            <a:off x="6443640" y="4292640"/>
            <a:ext cx="24112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58560" y="981000"/>
            <a:ext cx="69721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艾滋病带来的伤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558972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管：鸡尾酒疗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延长生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是：最大的伤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灵的创伤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质量的下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Picture 4" descr=""/>
          <p:cNvPicPr/>
          <p:nvPr/>
        </p:nvPicPr>
        <p:blipFill>
          <a:blip r:embed="rId1"/>
          <a:stretch/>
        </p:blipFill>
        <p:spPr>
          <a:xfrm>
            <a:off x="5764320" y="2997360"/>
            <a:ext cx="30668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60360" y="76500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任何疑问，可以联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80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愿咨询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C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热线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29-85525625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网上咨询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www.xiancdc.co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浪微博：西安市艾滋病防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信公众号：西安疾病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9" name="Picture 4" descr=""/>
          <p:cNvPicPr/>
          <p:nvPr/>
        </p:nvPicPr>
        <p:blipFill>
          <a:blip r:embed="rId1"/>
          <a:stretch/>
        </p:blipFill>
        <p:spPr>
          <a:xfrm>
            <a:off x="2286000" y="4000680"/>
            <a:ext cx="3873600" cy="1728720"/>
          </a:xfrm>
          <a:prstGeom prst="rect">
            <a:avLst/>
          </a:prstGeom>
          <a:ln w="0">
            <a:noFill/>
          </a:ln>
        </p:spPr>
      </p:pic>
      <p:sp>
        <p:nvSpPr>
          <p:cNvPr id="850" name="Text Box 5"/>
          <p:cNvSpPr/>
          <p:nvPr/>
        </p:nvSpPr>
        <p:spPr>
          <a:xfrm>
            <a:off x="4417920" y="3246480"/>
            <a:ext cx="20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"/>
          <p:cNvSpPr/>
          <p:nvPr/>
        </p:nvSpPr>
        <p:spPr>
          <a:xfrm rot="8760000"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7" descr=""/>
          <p:cNvPicPr/>
          <p:nvPr/>
        </p:nvPicPr>
        <p:blipFill>
          <a:blip r:embed="rId2"/>
          <a:stretch/>
        </p:blipFill>
        <p:spPr>
          <a:xfrm>
            <a:off x="6172200" y="3070080"/>
            <a:ext cx="2685960" cy="159084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8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9"/>
          <p:cNvSpPr/>
          <p:nvPr/>
        </p:nvSpPr>
        <p:spPr>
          <a:xfrm flipV="1">
            <a:off x="4416480" y="361332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11" descr=""/>
          <p:cNvPicPr/>
          <p:nvPr/>
        </p:nvPicPr>
        <p:blipFill>
          <a:blip r:embed="rId3"/>
          <a:stretch/>
        </p:blipFill>
        <p:spPr>
          <a:xfrm>
            <a:off x="7072200" y="4714920"/>
            <a:ext cx="1808280" cy="18003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2" descr=""/>
          <p:cNvPicPr/>
          <p:nvPr/>
        </p:nvPicPr>
        <p:blipFill>
          <a:blip r:embed="rId4"/>
          <a:stretch/>
        </p:blipFill>
        <p:spPr>
          <a:xfrm>
            <a:off x="428760" y="3857760"/>
            <a:ext cx="18064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艾滋病在我们心中的印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3" descr="xin_3007040216097962756816"/>
          <p:cNvPicPr/>
          <p:nvPr/>
        </p:nvPicPr>
        <p:blipFill>
          <a:blip r:embed="rId1"/>
          <a:stretch/>
        </p:blipFill>
        <p:spPr>
          <a:xfrm>
            <a:off x="4859280" y="1484280"/>
            <a:ext cx="3168720" cy="20700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013000~1"/>
          <p:cNvPicPr/>
          <p:nvPr/>
        </p:nvPicPr>
        <p:blipFill>
          <a:blip r:embed="rId2"/>
          <a:stretch/>
        </p:blipFill>
        <p:spPr>
          <a:xfrm>
            <a:off x="539640" y="1484280"/>
            <a:ext cx="3311640" cy="20383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159342~1"/>
          <p:cNvPicPr/>
          <p:nvPr/>
        </p:nvPicPr>
        <p:blipFill>
          <a:blip r:embed="rId3"/>
          <a:stretch/>
        </p:blipFill>
        <p:spPr>
          <a:xfrm>
            <a:off x="611280" y="3789360"/>
            <a:ext cx="3276360" cy="22320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" descr="201431~1"/>
          <p:cNvPicPr/>
          <p:nvPr/>
        </p:nvPicPr>
        <p:blipFill>
          <a:blip r:embed="rId4"/>
          <a:stretch/>
        </p:blipFill>
        <p:spPr>
          <a:xfrm>
            <a:off x="4859280" y="3789360"/>
            <a:ext cx="3256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107070~1"/>
          <p:cNvPicPr/>
          <p:nvPr/>
        </p:nvPicPr>
        <p:blipFill>
          <a:blip r:embed="rId1"/>
          <a:stretch/>
        </p:blipFill>
        <p:spPr>
          <a:xfrm>
            <a:off x="1258920" y="0"/>
            <a:ext cx="6840360" cy="684036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1908000" y="2708280"/>
            <a:ext cx="375624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1dff"/>
                </a:solidFill>
                <a:latin typeface="Calibri"/>
                <a:ea typeface="微软雅黑"/>
              </a:rPr>
              <a:t>为了自己，为了父母，为了他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1dff"/>
                </a:solidFill>
                <a:latin typeface="Calibri"/>
                <a:ea typeface="微软雅黑"/>
              </a:rPr>
              <a:t>保护好自己，远离不安全性行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4" descr="a726f85adaa10de94d9e9127696bf28e"/>
          <p:cNvPicPr/>
          <p:nvPr/>
        </p:nvPicPr>
        <p:blipFill>
          <a:blip r:embed="rId1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860" name="WordArt 5"/>
          <p:cNvSpPr txBox="1"/>
          <p:nvPr/>
        </p:nvSpPr>
        <p:spPr>
          <a:xfrm>
            <a:off x="755640" y="981000"/>
            <a:ext cx="7920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青春需设防  珍爱生命 远离艾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972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黑体"/>
              </a:rPr>
              <a:t>主要内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3"/>
          <p:cNvSpPr/>
          <p:nvPr/>
        </p:nvSpPr>
        <p:spPr>
          <a:xfrm>
            <a:off x="1476360" y="1916280"/>
            <a:ext cx="6767640" cy="865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艾滋病离我们有多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4"/>
          <p:cNvSpPr/>
          <p:nvPr/>
        </p:nvSpPr>
        <p:spPr>
          <a:xfrm>
            <a:off x="1476360" y="3213000"/>
            <a:ext cx="6767640" cy="865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二、艾滋病基本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1476360" y="4508640"/>
            <a:ext cx="6840720" cy="865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、如何预防艾滋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3"/>
          <p:cNvSpPr/>
          <p:nvPr/>
        </p:nvSpPr>
        <p:spPr>
          <a:xfrm>
            <a:off x="684360" y="803880"/>
            <a:ext cx="75960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2014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年我国报告新发现艾滋病病毒感染者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艾滋病病人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10.4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万例，其中性传播比例超过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。平均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每小时新发现</a:t>
            </a:r>
            <a:r>
              <a:rPr b="0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位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艾滋病病毒感染者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艾滋病病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-2014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年，报告青年学生感染者人数占全部青年人群感染者人数的比例由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5.77%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上升到</a:t>
            </a:r>
            <a:r>
              <a:rPr b="0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16.58%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截至今年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月底，我国报告现存活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15-24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岁的青年学生艾滋病病毒感染者和病人</a:t>
            </a:r>
            <a:r>
              <a:rPr b="0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9152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。而我们雁塔区目前发病人数达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多例，我们社区卫生服务中心辖区内的发病人数由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2013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年的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上升到目前的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68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。现在的统计人数也许只是发病人数的冰山一角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142920" y="1773000"/>
            <a:ext cx="87868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问：男男性传播是学生感染艾滋的主要途径吗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52525"/>
                </a:solidFill>
                <a:latin typeface="黑体"/>
                <a:ea typeface="黑体"/>
              </a:rPr>
              <a:t>答：的确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25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525"/>
                </a:solidFill>
                <a:latin typeface="黑体"/>
                <a:ea typeface="黑体"/>
              </a:rPr>
              <a:t>2008</a:t>
            </a:r>
            <a:r>
              <a:rPr b="0" lang="zh-CN" sz="2000" spc="-1" strike="noStrike">
                <a:solidFill>
                  <a:srgbClr val="252525"/>
                </a:solidFill>
                <a:latin typeface="黑体"/>
                <a:ea typeface="黑体"/>
              </a:rPr>
              <a:t>年报告学生病例中，男女生的比例是</a:t>
            </a:r>
            <a:r>
              <a:rPr b="0" lang="en-US" sz="2000" spc="-1" strike="noStrike">
                <a:solidFill>
                  <a:srgbClr val="252525"/>
                </a:solidFill>
                <a:latin typeface="黑体"/>
                <a:ea typeface="黑体"/>
              </a:rPr>
              <a:t>9</a:t>
            </a:r>
            <a:r>
              <a:rPr b="0" lang="zh-CN" sz="2000" spc="-1" strike="noStrike">
                <a:solidFill>
                  <a:srgbClr val="252525"/>
                </a:solidFill>
                <a:latin typeface="黑体"/>
                <a:ea typeface="黑体"/>
              </a:rPr>
              <a:t>：</a:t>
            </a:r>
            <a:r>
              <a:rPr b="0" lang="en-US" sz="2000" spc="-1" strike="noStrike">
                <a:solidFill>
                  <a:srgbClr val="252525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252525"/>
                </a:solidFill>
                <a:latin typeface="黑体"/>
                <a:ea typeface="黑体"/>
              </a:rPr>
              <a:t>，而到</a:t>
            </a:r>
            <a:r>
              <a:rPr b="0" lang="en-US" sz="2000" spc="-1" strike="noStrike">
                <a:solidFill>
                  <a:srgbClr val="252525"/>
                </a:solidFill>
                <a:latin typeface="黑体"/>
                <a:ea typeface="黑体"/>
              </a:rPr>
              <a:t>2014</a:t>
            </a:r>
            <a:r>
              <a:rPr b="0" lang="zh-CN" sz="2000" spc="-1" strike="noStrike">
                <a:solidFill>
                  <a:srgbClr val="252525"/>
                </a:solidFill>
                <a:latin typeface="黑体"/>
                <a:ea typeface="黑体"/>
              </a:rPr>
              <a:t>年比例是</a:t>
            </a:r>
            <a:r>
              <a:rPr b="0" lang="en-US" sz="2000" spc="-1" strike="noStrike">
                <a:solidFill>
                  <a:srgbClr val="252525"/>
                </a:solidFill>
                <a:latin typeface="黑体"/>
                <a:ea typeface="黑体"/>
              </a:rPr>
              <a:t>41</a:t>
            </a:r>
            <a:r>
              <a:rPr b="0" lang="zh-CN" sz="2000" spc="-1" strike="noStrike">
                <a:solidFill>
                  <a:srgbClr val="252525"/>
                </a:solidFill>
                <a:latin typeface="黑体"/>
                <a:ea typeface="黑体"/>
              </a:rPr>
              <a:t>：</a:t>
            </a:r>
            <a:r>
              <a:rPr b="0" lang="en-US" sz="2000" spc="-1" strike="noStrike">
                <a:solidFill>
                  <a:srgbClr val="252525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252525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1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，青年学生中新报艾滋病感染数从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例上升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55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例，其中传播途径以</a:t>
            </a:r>
            <a:r>
              <a:rPr b="0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男性同性性传播的比例由</a:t>
            </a:r>
            <a:r>
              <a:rPr b="0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58.5%</a:t>
            </a:r>
            <a:r>
              <a:rPr b="0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飙升至</a:t>
            </a:r>
            <a:r>
              <a:rPr b="0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81.6%</a:t>
            </a:r>
            <a:r>
              <a:rPr b="0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青年学生，尤其是男男同性恋的性传播，是当前艾滋病防治工作的特别重点、难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250920" y="90792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艾滋病新疫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539640" y="2133360"/>
            <a:ext cx="83743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艾滋病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0-19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岁的青少年人群的死因顺位中排第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本次会议非常重视青年在全球应对艾滋病中的重要作用，邀请各国青年艾滋病感染者在开幕式致辞，倡导更多的青年应该加入到抗击艾滋病的队伍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Oval 2"/>
          <p:cNvSpPr/>
          <p:nvPr/>
        </p:nvSpPr>
        <p:spPr>
          <a:xfrm>
            <a:off x="817560" y="1052640"/>
            <a:ext cx="2241720" cy="10429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国发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2268360" y="1700280"/>
            <a:ext cx="64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4"/>
          <p:cNvSpPr/>
          <p:nvPr/>
        </p:nvSpPr>
        <p:spPr>
          <a:xfrm>
            <a:off x="3564000" y="1052640"/>
            <a:ext cx="2160360" cy="10429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流入中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5"/>
          <p:cNvSpPr/>
          <p:nvPr/>
        </p:nvSpPr>
        <p:spPr>
          <a:xfrm>
            <a:off x="6227640" y="1052640"/>
            <a:ext cx="2376720" cy="10429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安首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268360" y="1700280"/>
            <a:ext cx="100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268360" y="3860640"/>
            <a:ext cx="172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8" descr="20062271510734_34666"/>
          <p:cNvPicPr/>
          <p:nvPr/>
        </p:nvPicPr>
        <p:blipFill>
          <a:blip r:embed="rId1"/>
          <a:stretch/>
        </p:blipFill>
        <p:spPr>
          <a:xfrm>
            <a:off x="1042920" y="2421000"/>
            <a:ext cx="6985080" cy="381636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1028"/>
          <p:cNvSpPr/>
          <p:nvPr/>
        </p:nvSpPr>
        <p:spPr>
          <a:xfrm>
            <a:off x="1403280" y="6249960"/>
            <a:ext cx="553392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告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/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仅仅是冰山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09:06:07Z</dcterms:created>
  <dc:creator>黄晓丹</dc:creator>
  <dc:description/>
  <dc:language>en-US</dc:language>
  <cp:lastModifiedBy>user</cp:lastModifiedBy>
  <dcterms:modified xsi:type="dcterms:W3CDTF">2016-11-25T07:22:28Z</dcterms:modified>
  <cp:revision>68</cp:revision>
  <dc:subject/>
  <dc:title>青少年与艾滋病预防</dc:title>
</cp:coreProperties>
</file>