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0f9e3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D3DF-FB36-4FF6-8DC9-459C94210F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ihua.docer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1752-7958-47FF-87C3-D26203ACB85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0D8-4BED-4B78-99CC-3F605052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B12-1304-49A5-80B3-27EF9C12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F07-0037-44E2-9478-018D9D73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6768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9272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264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6768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9272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5A7-E129-41AB-9476-F5D11661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C614-D167-4FE6-92FB-54B7994E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994F-72C9-4917-9AFD-CA7C8E3F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A142-D6A5-40CA-981D-86E7F62C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59F4-A5F8-4444-BA12-627327EC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E071-B669-40F4-852A-9ABC0E4B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3BE3-E5F3-40B7-B982-0DBE9AC5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FC37-E2D2-41C4-A2A2-63EE5593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A3C-8A72-45B2-B291-BD018271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DB9F-AEE1-4210-8BE1-FCF9247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8CD4-34F7-4E65-B873-A34695F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BBFB-F688-4A4E-A96D-3512E164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F09F-5961-4E3A-8E41-4808F0E0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6768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272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264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6768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272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625C-4045-4367-83CE-275C5405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026B-B0A1-4618-B5FE-EAE3F2F5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EBA4-1E6E-484F-AF6E-0A543960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E8F7-7BEA-4E4E-987D-9CF4961E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4A39-EB50-4A45-8CF1-402A2E7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9EEC-FB5A-45CC-8700-7A8A061A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D05-8A76-4C02-A4EC-62105DEF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1C0D-ECF2-4109-B0F6-F4097DD2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3779-35BE-4001-BE37-38C0A4E0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FCA8-2BA8-4809-8443-39F6250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F483-512A-4D86-B5A2-2612113C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DF38-D466-4A31-9A22-33779FCA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FD5CB-240F-429F-A489-D48D78FA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6768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9272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4264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6768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9272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868D-7153-4956-896B-70E5C902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AAE-4B60-4EF0-9E10-59AAADD1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D0E-FB58-4E96-8489-1BFC628C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C48-E4DB-4E82-9BC8-7E33C161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BDD-A337-4B3B-8B34-D30A38DF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B40-1FF8-4727-B375-589843F4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9CD-E95C-472E-A6A2-BD1E6722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-9360"/>
            <a:ext cx="762120" cy="686736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f0f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026"/>
          <p:cNvSpPr/>
          <p:nvPr/>
        </p:nvSpPr>
        <p:spPr>
          <a:xfrm>
            <a:off x="11160" y="1023840"/>
            <a:ext cx="9144000" cy="7776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f0f9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任意多边形 1027"/>
          <p:cNvSpPr/>
          <p:nvPr/>
        </p:nvSpPr>
        <p:spPr>
          <a:xfrm rot="12887400">
            <a:off x="45720" y="457200"/>
            <a:ext cx="1298520" cy="1225440"/>
          </a:xfrm>
          <a:custGeom>
            <a:avLst/>
            <a:gdLst/>
            <a:ahLst/>
            <a:rect l="l" t="t" r="r" b="b"/>
            <a:pathLst>
              <a:path fill="none" w="43200" h="39655">
                <a:moveTo>
                  <a:pt x="2010" y="30701"/>
                </a:moveTo>
                <a:cubicBezTo>
                  <a:pt x="718" y="27938"/>
                  <a:pt x="-1" y="24853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528" y="0"/>
                  <a:pt x="43199" y="9671"/>
                  <a:pt x="43199" y="21600"/>
                </a:cubicBezTo>
                <a:cubicBezTo>
                  <a:pt x="43199" y="29150"/>
                  <a:pt x="39325" y="35796"/>
                  <a:pt x="33458" y="39657"/>
                </a:cubicBezTo>
              </a:path>
              <a:path stroke="0" w="43200" h="39655">
                <a:moveTo>
                  <a:pt x="33456" y="39655"/>
                </a:moveTo>
                <a:cubicBezTo>
                  <a:pt x="37233" y="38262"/>
                  <a:pt x="42959" y="37373"/>
                  <a:pt x="49369" y="37373"/>
                </a:cubicBezTo>
                <a:cubicBezTo>
                  <a:pt x="60743" y="37373"/>
                  <a:pt x="69964" y="40171"/>
                  <a:pt x="69964" y="43622"/>
                </a:cubicBezTo>
                <a:cubicBezTo>
                  <a:pt x="69964" y="46683"/>
                  <a:pt x="62709" y="49230"/>
                  <a:pt x="53138" y="49767"/>
                </a:cubicBezTo>
                <a:lnTo>
                  <a:pt x="2010" y="30701"/>
                </a:lnTo>
                <a:close/>
              </a:path>
            </a:pathLst>
          </a:custGeom>
          <a:noFill/>
          <a:ln w="19080">
            <a:solidFill>
              <a:srgbClr val="6666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1028"/>
          <p:cNvSpPr/>
          <p:nvPr/>
        </p:nvSpPr>
        <p:spPr>
          <a:xfrm>
            <a:off x="225360" y="434880"/>
            <a:ext cx="1055880" cy="1173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任意多边形 1029"/>
          <p:cNvSpPr/>
          <p:nvPr/>
        </p:nvSpPr>
        <p:spPr>
          <a:xfrm>
            <a:off x="152280" y="457200"/>
            <a:ext cx="1179720" cy="1120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783" y="10800"/>
                </a:moveTo>
                <a:cubicBezTo>
                  <a:pt x="2783" y="15228"/>
                  <a:pt x="6372" y="18817"/>
                  <a:pt x="10800" y="18817"/>
                </a:cubicBezTo>
                <a:cubicBezTo>
                  <a:pt x="15228" y="18817"/>
                  <a:pt x="18817" y="15228"/>
                  <a:pt x="18817" y="10800"/>
                </a:cubicBezTo>
                <a:cubicBezTo>
                  <a:pt x="18817" y="6372"/>
                  <a:pt x="15228" y="2783"/>
                  <a:pt x="10800" y="2783"/>
                </a:cubicBezTo>
                <a:cubicBezTo>
                  <a:pt x="6372" y="2783"/>
                  <a:pt x="2783" y="6372"/>
                  <a:pt x="2783" y="10800"/>
                </a:cubicBezTo>
                <a:close/>
              </a:path>
            </a:pathLst>
          </a:custGeom>
          <a:solidFill>
            <a:srgbClr val="c4d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任意多边形 1030"/>
          <p:cNvSpPr/>
          <p:nvPr/>
        </p:nvSpPr>
        <p:spPr>
          <a:xfrm rot="3175800">
            <a:off x="144000" y="407880"/>
            <a:ext cx="1168560" cy="12128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13512" y="4029"/>
                </a:moveTo>
                <a:cubicBezTo>
                  <a:pt x="16198" y="5105"/>
                  <a:pt x="18093" y="7731"/>
                  <a:pt x="18093" y="10800"/>
                </a:cubicBezTo>
                <a:cubicBezTo>
                  <a:pt x="18093" y="14828"/>
                  <a:pt x="14827" y="18094"/>
                  <a:pt x="10799" y="18094"/>
                </a:cubicBezTo>
                <a:cubicBezTo>
                  <a:pt x="6771" y="18094"/>
                  <a:pt x="3505" y="14828"/>
                  <a:pt x="3505" y="10800"/>
                </a:cubicBezTo>
                <a:cubicBezTo>
                  <a:pt x="3505" y="7731"/>
                  <a:pt x="5400" y="5105"/>
                  <a:pt x="8083" y="4028"/>
                </a:cubicBezTo>
                <a:lnTo>
                  <a:pt x="6783" y="774"/>
                </a:lnTo>
                <a:cubicBezTo>
                  <a:pt x="2806" y="2367"/>
                  <a:pt x="0" y="6255"/>
                  <a:pt x="0" y="10799"/>
                </a:cubicBezTo>
                <a:cubicBezTo>
                  <a:pt x="0" y="16764"/>
                  <a:pt x="4835" y="21599"/>
                  <a:pt x="10800" y="21599"/>
                </a:cubicBezTo>
                <a:cubicBezTo>
                  <a:pt x="16765" y="21599"/>
                  <a:pt x="21600" y="16764"/>
                  <a:pt x="21600" y="10799"/>
                </a:cubicBezTo>
                <a:cubicBezTo>
                  <a:pt x="21600" y="6255"/>
                  <a:pt x="18794" y="2366"/>
                  <a:pt x="14819" y="772"/>
                </a:cubicBezTo>
                <a:close/>
              </a:path>
            </a:pathLst>
          </a:custGeom>
          <a:gradFill rotWithShape="0">
            <a:gsLst>
              <a:gs pos="0">
                <a:srgbClr val="f7fcfc"/>
              </a:gs>
              <a:gs pos="100000">
                <a:srgbClr val="75cbc7"/>
              </a:gs>
            </a:gsLst>
            <a:lin ang="21126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091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D2CE-1FFD-4E23-B6B0-6C0A92880B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C443-5A54-4DDE-A282-33D52C54E56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b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049"/>
          <p:cNvSpPr/>
          <p:nvPr/>
        </p:nvSpPr>
        <p:spPr>
          <a:xfrm>
            <a:off x="0" y="-9360"/>
            <a:ext cx="4648320" cy="686736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eff4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053"/>
          <p:cNvSpPr/>
          <p:nvPr/>
        </p:nvSpPr>
        <p:spPr>
          <a:xfrm>
            <a:off x="7467480" y="59436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54"/>
          <p:cNvSpPr/>
          <p:nvPr/>
        </p:nvSpPr>
        <p:spPr>
          <a:xfrm>
            <a:off x="0" y="3276720"/>
            <a:ext cx="9144000" cy="99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2055"/>
          <p:cNvSpPr/>
          <p:nvPr/>
        </p:nvSpPr>
        <p:spPr>
          <a:xfrm>
            <a:off x="2651040" y="2063880"/>
            <a:ext cx="3733920" cy="3733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2056"/>
          <p:cNvSpPr/>
          <p:nvPr/>
        </p:nvSpPr>
        <p:spPr>
          <a:xfrm>
            <a:off x="2651040" y="2049480"/>
            <a:ext cx="3745080" cy="373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783" y="10800"/>
                </a:moveTo>
                <a:cubicBezTo>
                  <a:pt x="2783" y="15228"/>
                  <a:pt x="6372" y="18817"/>
                  <a:pt x="10800" y="18817"/>
                </a:cubicBezTo>
                <a:cubicBezTo>
                  <a:pt x="15228" y="18817"/>
                  <a:pt x="18817" y="15228"/>
                  <a:pt x="18817" y="10800"/>
                </a:cubicBezTo>
                <a:cubicBezTo>
                  <a:pt x="18817" y="6372"/>
                  <a:pt x="15228" y="2783"/>
                  <a:pt x="10800" y="2783"/>
                </a:cubicBezTo>
                <a:cubicBezTo>
                  <a:pt x="6372" y="2783"/>
                  <a:pt x="2783" y="6372"/>
                  <a:pt x="2783" y="10800"/>
                </a:cubicBezTo>
                <a:close/>
              </a:path>
            </a:pathLst>
          </a:custGeom>
          <a:solidFill>
            <a:srgbClr val="c4d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2057"/>
          <p:cNvSpPr/>
          <p:nvPr/>
        </p:nvSpPr>
        <p:spPr>
          <a:xfrm rot="3175800">
            <a:off x="2644920" y="2033640"/>
            <a:ext cx="3760920" cy="37764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14594" y="4285"/>
                </a:moveTo>
                <a:cubicBezTo>
                  <a:pt x="16834" y="5591"/>
                  <a:pt x="18338" y="8019"/>
                  <a:pt x="18338" y="10799"/>
                </a:cubicBezTo>
                <a:cubicBezTo>
                  <a:pt x="18338" y="14963"/>
                  <a:pt x="14963" y="18338"/>
                  <a:pt x="10799" y="18338"/>
                </a:cubicBezTo>
                <a:cubicBezTo>
                  <a:pt x="6635" y="18338"/>
                  <a:pt x="3260" y="14963"/>
                  <a:pt x="3260" y="10799"/>
                </a:cubicBezTo>
                <a:cubicBezTo>
                  <a:pt x="3260" y="8019"/>
                  <a:pt x="4764" y="5591"/>
                  <a:pt x="7003" y="4284"/>
                </a:cubicBezTo>
                <a:lnTo>
                  <a:pt x="5363" y="1467"/>
                </a:lnTo>
                <a:cubicBezTo>
                  <a:pt x="2154" y="3339"/>
                  <a:pt x="-1" y="6817"/>
                  <a:pt x="-1" y="10799"/>
                </a:cubicBezTo>
                <a:cubicBezTo>
                  <a:pt x="-1" y="16764"/>
                  <a:pt x="4834" y="21599"/>
                  <a:pt x="10799" y="21599"/>
                </a:cubicBezTo>
                <a:cubicBezTo>
                  <a:pt x="16764" y="21599"/>
                  <a:pt x="21599" y="16764"/>
                  <a:pt x="21599" y="10799"/>
                </a:cubicBezTo>
                <a:cubicBezTo>
                  <a:pt x="21599" y="6817"/>
                  <a:pt x="19444" y="3338"/>
                  <a:pt x="16236" y="1466"/>
                </a:cubicBezTo>
                <a:close/>
              </a:path>
            </a:pathLst>
          </a:custGeom>
          <a:gradFill rotWithShape="0">
            <a:gsLst>
              <a:gs pos="0">
                <a:srgbClr val="f3fafa"/>
              </a:gs>
              <a:gs pos="100000">
                <a:srgbClr val="75cbc7"/>
              </a:gs>
            </a:gsLst>
            <a:lin ang="21126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2060"/>
          <p:cNvSpPr/>
          <p:nvPr/>
        </p:nvSpPr>
        <p:spPr>
          <a:xfrm rot="12887400">
            <a:off x="2369880" y="2187000"/>
            <a:ext cx="4128840" cy="3755880"/>
          </a:xfrm>
          <a:custGeom>
            <a:avLst/>
            <a:gdLst/>
            <a:ahLst/>
            <a:rect l="l" t="t" r="r" b="b"/>
            <a:pathLst>
              <a:path fill="none" w="43200" h="39655">
                <a:moveTo>
                  <a:pt x="2010" y="30701"/>
                </a:moveTo>
                <a:cubicBezTo>
                  <a:pt x="718" y="27938"/>
                  <a:pt x="-1" y="24853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528" y="0"/>
                  <a:pt x="43199" y="9671"/>
                  <a:pt x="43199" y="21600"/>
                </a:cubicBezTo>
                <a:cubicBezTo>
                  <a:pt x="43199" y="29150"/>
                  <a:pt x="39325" y="35796"/>
                  <a:pt x="33458" y="39657"/>
                </a:cubicBezTo>
              </a:path>
              <a:path stroke="0" w="43200" h="39655">
                <a:moveTo>
                  <a:pt x="33456" y="39655"/>
                </a:moveTo>
                <a:cubicBezTo>
                  <a:pt x="37233" y="38262"/>
                  <a:pt x="42959" y="37373"/>
                  <a:pt x="49369" y="37373"/>
                </a:cubicBezTo>
                <a:cubicBezTo>
                  <a:pt x="60743" y="37373"/>
                  <a:pt x="69964" y="40171"/>
                  <a:pt x="69964" y="43622"/>
                </a:cubicBezTo>
                <a:cubicBezTo>
                  <a:pt x="69964" y="46683"/>
                  <a:pt x="62709" y="49230"/>
                  <a:pt x="53138" y="49767"/>
                </a:cubicBezTo>
                <a:lnTo>
                  <a:pt x="2010" y="3070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DC7A-CEDA-456A-8408-3AAEC7538D0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b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呼吸道感染及抗菌药物合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256000" y="1752480"/>
            <a:ext cx="305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安科技大学医院  张晓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圆角矩形 15361"/>
          <p:cNvSpPr/>
          <p:nvPr/>
        </p:nvSpPr>
        <p:spPr>
          <a:xfrm>
            <a:off x="37339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出现上皮细胞的破坏，伴单核细胞浸润，浆液及黏液性炎渗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5362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5363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发细菌感染者可有中性粒细胞浸润及脓性分泌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15365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60" y="0"/>
                </a:lnTo>
                <a:lnTo>
                  <a:pt x="21600" y="10800"/>
                </a:lnTo>
                <a:lnTo>
                  <a:pt x="10260" y="21600"/>
                </a:lnTo>
                <a:lnTo>
                  <a:pt x="0" y="21600"/>
                </a:lnTo>
                <a:lnTo>
                  <a:pt x="11340" y="10800"/>
                </a:lnTo>
                <a:close/>
              </a:path>
            </a:pathLst>
          </a:custGeom>
          <a:solidFill>
            <a:srgbClr val="75c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15366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60" y="0"/>
                </a:lnTo>
                <a:lnTo>
                  <a:pt x="21600" y="10800"/>
                </a:lnTo>
                <a:lnTo>
                  <a:pt x="10260" y="21600"/>
                </a:lnTo>
                <a:lnTo>
                  <a:pt x="0" y="21600"/>
                </a:lnTo>
                <a:lnTo>
                  <a:pt x="11340" y="10800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5367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3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536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663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5369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371c"/>
              </a:gs>
              <a:gs pos="50000">
                <a:srgbClr val="666633"/>
              </a:gs>
              <a:gs pos="100000">
                <a:srgbClr val="37371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5370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4120"/>
              </a:gs>
              <a:gs pos="100000">
                <a:srgbClr val="66663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5371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5372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537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990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5374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a5300"/>
              </a:gs>
              <a:gs pos="50000">
                <a:srgbClr val="ff9900"/>
              </a:gs>
              <a:gs pos="100000">
                <a:srgbClr val="8a53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5375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a26100"/>
              </a:gs>
              <a:gs pos="100000">
                <a:srgbClr val="ff99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5376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5377"/>
          <p:cNvGrpSpPr/>
          <p:nvPr/>
        </p:nvGrpSpPr>
        <p:grpSpPr>
          <a:xfrm>
            <a:off x="1523880" y="2057400"/>
            <a:ext cx="1290600" cy="1279440"/>
            <a:chOff x="1523880" y="2057400"/>
            <a:chExt cx="1290600" cy="1279440"/>
          </a:xfrm>
        </p:grpSpPr>
        <p:sp>
          <p:nvSpPr>
            <p:cNvPr id="206" name="椭圆 15378"/>
            <p:cNvSpPr/>
            <p:nvPr/>
          </p:nvSpPr>
          <p:spPr>
            <a:xfrm>
              <a:off x="1523880" y="2057400"/>
              <a:ext cx="1290600" cy="1279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5379"/>
            <p:cNvSpPr/>
            <p:nvPr/>
          </p:nvSpPr>
          <p:spPr>
            <a:xfrm>
              <a:off x="1540440" y="2064240"/>
              <a:ext cx="1259280" cy="12477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5380"/>
            <p:cNvSpPr/>
            <p:nvPr/>
          </p:nvSpPr>
          <p:spPr>
            <a:xfrm>
              <a:off x="1553760" y="2076840"/>
              <a:ext cx="1197720" cy="11656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15381"/>
            <p:cNvSpPr/>
            <p:nvPr/>
          </p:nvSpPr>
          <p:spPr>
            <a:xfrm>
              <a:off x="1623600" y="2109240"/>
              <a:ext cx="1064880" cy="94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椭圆 15382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cbc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538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5cbc7">
                  <a:alpha val="32156"/>
                </a:srgbClr>
              </a:gs>
              <a:gs pos="100000">
                <a:srgbClr val="365e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5384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f6e6c"/>
              </a:gs>
              <a:gs pos="50000">
                <a:srgbClr val="75cbc7"/>
              </a:gs>
              <a:gs pos="100000">
                <a:srgbClr val="3f6e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5385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a817e"/>
              </a:gs>
              <a:gs pos="100000">
                <a:srgbClr val="75cbc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5386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15387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16" name="椭圆 15388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5389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15390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15391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392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21" name="椭圆 15393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5394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15395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5396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15397"/>
          <p:cNvSpPr/>
          <p:nvPr/>
        </p:nvSpPr>
        <p:spPr>
          <a:xfrm>
            <a:off x="1447920" y="4095720"/>
            <a:ext cx="121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明显病理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5398"/>
          <p:cNvSpPr/>
          <p:nvPr/>
        </p:nvSpPr>
        <p:spPr>
          <a:xfrm>
            <a:off x="3886200" y="4343400"/>
            <a:ext cx="11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临床表现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6386"/>
          <p:cNvSpPr/>
          <p:nvPr/>
        </p:nvSpPr>
        <p:spPr>
          <a:xfrm>
            <a:off x="1219320" y="1371600"/>
            <a:ext cx="730404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84400">
              <a:lnSpc>
                <a:spcPct val="2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ommon c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lnSpc>
                <a:spcPct val="2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咽喉部感染（病毒性、细菌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Placeholder 3"/>
          <p:cNvSpPr/>
          <p:nvPr/>
        </p:nvSpPr>
        <p:spPr>
          <a:xfrm>
            <a:off x="228600" y="2743200"/>
            <a:ext cx="426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de9"/>
                </a:solidFill>
                <a:latin typeface="Arial"/>
                <a:ea typeface="微软雅黑"/>
              </a:rPr>
              <a:t>二 </a:t>
            </a:r>
            <a:r>
              <a:rPr b="1" lang="en-US" sz="3600" spc="-1" strike="noStrike">
                <a:solidFill>
                  <a:srgbClr val="3b8de9"/>
                </a:solidFill>
                <a:latin typeface="Arial"/>
                <a:ea typeface="微软雅黑"/>
              </a:rPr>
              <a:t>. </a:t>
            </a:r>
            <a:r>
              <a:rPr b="1" lang="zh-CN" sz="3600" spc="-1" strike="noStrike">
                <a:solidFill>
                  <a:srgbClr val="3b8de9"/>
                </a:solidFill>
                <a:latin typeface="Arial"/>
                <a:ea typeface="微软雅黑"/>
              </a:rPr>
              <a:t>普通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等腰三角形 18"/>
          <p:cNvSpPr/>
          <p:nvPr/>
        </p:nvSpPr>
        <p:spPr>
          <a:xfrm rot="9232800">
            <a:off x="7206480" y="2453760"/>
            <a:ext cx="266760" cy="230400"/>
          </a:xfrm>
          <a:prstGeom prst="triangle">
            <a:avLst>
              <a:gd name="adj" fmla="val 50000"/>
            </a:avLst>
          </a:prstGeom>
          <a:solidFill>
            <a:srgbClr val="d8e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等腰三角形 19"/>
          <p:cNvSpPr/>
          <p:nvPr/>
        </p:nvSpPr>
        <p:spPr>
          <a:xfrm rot="15569400">
            <a:off x="6854400" y="3128760"/>
            <a:ext cx="396720" cy="34308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等腰三角形 20"/>
          <p:cNvSpPr/>
          <p:nvPr/>
        </p:nvSpPr>
        <p:spPr>
          <a:xfrm rot="21370800">
            <a:off x="6723000" y="1804680"/>
            <a:ext cx="266760" cy="23004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等腰三角形 21"/>
          <p:cNvSpPr/>
          <p:nvPr/>
        </p:nvSpPr>
        <p:spPr>
          <a:xfrm rot="12912000">
            <a:off x="7764480" y="3486960"/>
            <a:ext cx="944640" cy="816120"/>
          </a:xfrm>
          <a:prstGeom prst="triangle">
            <a:avLst>
              <a:gd name="adj" fmla="val 50000"/>
            </a:avLst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等腰三角形 22"/>
          <p:cNvSpPr/>
          <p:nvPr/>
        </p:nvSpPr>
        <p:spPr>
          <a:xfrm rot="12912000">
            <a:off x="7632720" y="3426840"/>
            <a:ext cx="1176480" cy="10141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b8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23"/>
          <p:cNvSpPr/>
          <p:nvPr/>
        </p:nvSpPr>
        <p:spPr>
          <a:xfrm rot="9109800">
            <a:off x="8952840" y="3792240"/>
            <a:ext cx="11412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24"/>
          <p:cNvSpPr/>
          <p:nvPr/>
        </p:nvSpPr>
        <p:spPr>
          <a:xfrm rot="9109800">
            <a:off x="7864560" y="4295880"/>
            <a:ext cx="11592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25"/>
          <p:cNvSpPr/>
          <p:nvPr/>
        </p:nvSpPr>
        <p:spPr>
          <a:xfrm rot="9109800">
            <a:off x="7944840" y="3144600"/>
            <a:ext cx="11412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26"/>
          <p:cNvSpPr/>
          <p:nvPr/>
        </p:nvSpPr>
        <p:spPr>
          <a:xfrm rot="18210000">
            <a:off x="6314040" y="2162520"/>
            <a:ext cx="127080" cy="109440"/>
          </a:xfrm>
          <a:prstGeom prst="triangle">
            <a:avLst>
              <a:gd name="adj" fmla="val 50000"/>
            </a:avLst>
          </a:prstGeom>
          <a:solidFill>
            <a:srgbClr val="d8e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27"/>
          <p:cNvSpPr/>
          <p:nvPr/>
        </p:nvSpPr>
        <p:spPr>
          <a:xfrm rot="8748000">
            <a:off x="6671880" y="2314080"/>
            <a:ext cx="128520" cy="10980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3"/>
          <p:cNvSpPr/>
          <p:nvPr/>
        </p:nvSpPr>
        <p:spPr>
          <a:xfrm flipH="1">
            <a:off x="0" y="4110120"/>
            <a:ext cx="6732720" cy="0"/>
          </a:xfrm>
          <a:prstGeom prst="line">
            <a:avLst/>
          </a:prstGeom>
          <a:ln cap="sq" w="19080">
            <a:solidFill>
              <a:srgbClr val="3b8de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8434"/>
          <p:cNvSpPr/>
          <p:nvPr/>
        </p:nvSpPr>
        <p:spPr>
          <a:xfrm>
            <a:off x="1447920" y="1447920"/>
            <a:ext cx="66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1680">
              <a:lnSpc>
                <a:spcPct val="2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1680">
              <a:lnSpc>
                <a:spcPct val="2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规范诊治的专家共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9458"/>
          <p:cNvSpPr/>
          <p:nvPr/>
        </p:nvSpPr>
        <p:spPr>
          <a:xfrm>
            <a:off x="1295280" y="1828800"/>
            <a:ext cx="69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mmon col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又称感冒，俗称“伤风”，又称急性鼻炎，以鼻咽部卡他症状为主要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的规范诊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20482"/>
          <p:cNvSpPr/>
          <p:nvPr/>
        </p:nvSpPr>
        <p:spPr>
          <a:xfrm>
            <a:off x="1143000" y="1981080"/>
            <a:ext cx="5286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0483"/>
          <p:cNvSpPr/>
          <p:nvPr/>
        </p:nvSpPr>
        <p:spPr>
          <a:xfrm>
            <a:off x="1371600" y="1371600"/>
            <a:ext cx="667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341640">
              <a:lnSpc>
                <a:spcPct val="2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普通感冒流行病学与危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临床特征与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诊断与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：似乎很“普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1506"/>
          <p:cNvSpPr/>
          <p:nvPr/>
        </p:nvSpPr>
        <p:spPr>
          <a:xfrm>
            <a:off x="1523880" y="1371600"/>
            <a:ext cx="688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普通感冒在美国是每年超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次就诊最常见的原因之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幼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儿童每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-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次，也可多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成人通常每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-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1507"/>
          <p:cNvSpPr/>
          <p:nvPr/>
        </p:nvSpPr>
        <p:spPr>
          <a:xfrm flipH="1">
            <a:off x="2666160" y="28954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1508"/>
          <p:cNvSpPr/>
          <p:nvPr/>
        </p:nvSpPr>
        <p:spPr>
          <a:xfrm>
            <a:off x="1523880" y="350532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普通感冒是人类最常遇到的感染性综合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1509"/>
          <p:cNvSpPr/>
          <p:nvPr/>
        </p:nvSpPr>
        <p:spPr>
          <a:xfrm>
            <a:off x="1523880" y="40384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我国社区居民感冒年发病率达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83.2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600200" y="4572000"/>
          <a:ext cx="6384960" cy="1555920"/>
        </p:xfrm>
        <a:graphic>
          <a:graphicData uri="http://schemas.openxmlformats.org/drawingml/2006/table">
            <a:tbl>
              <a:tblPr/>
              <a:tblGrid>
                <a:gridCol w="3184560"/>
                <a:gridCol w="320040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普通感冒发生频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成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平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~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儿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平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6~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影响患者的健康和生活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2530"/>
          <p:cNvGrpSpPr/>
          <p:nvPr/>
        </p:nvGrpSpPr>
        <p:grpSpPr>
          <a:xfrm>
            <a:off x="939960" y="1333440"/>
            <a:ext cx="7984440" cy="2349000"/>
            <a:chOff x="939960" y="1333440"/>
            <a:chExt cx="7984440" cy="2349000"/>
          </a:xfrm>
        </p:grpSpPr>
        <p:sp>
          <p:nvSpPr>
            <p:cNvPr id="256" name="矩形 22531"/>
            <p:cNvSpPr/>
            <p:nvPr/>
          </p:nvSpPr>
          <p:spPr>
            <a:xfrm>
              <a:off x="939960" y="1333440"/>
              <a:ext cx="7765920" cy="23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圆角矩形 22532"/>
            <p:cNvSpPr/>
            <p:nvPr/>
          </p:nvSpPr>
          <p:spPr>
            <a:xfrm>
              <a:off x="3657960" y="1333440"/>
              <a:ext cx="2329560" cy="67824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感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圆角矩形 22533"/>
            <p:cNvSpPr/>
            <p:nvPr/>
          </p:nvSpPr>
          <p:spPr>
            <a:xfrm>
              <a:off x="939960" y="2742840"/>
              <a:ext cx="2329560" cy="93960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鼻塞、流涕、咳嗽、发热、头痛等各种症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肘形连接符 22534"/>
            <p:cNvCxnSpPr>
              <a:stCxn id="258" idx="0"/>
              <a:endCxn id="257" idx="2"/>
            </p:cNvCxnSpPr>
            <p:nvPr/>
          </p:nvCxnSpPr>
          <p:spPr>
            <a:xfrm flipV="1">
              <a:off x="2104560" y="2011320"/>
              <a:ext cx="2718720" cy="73152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260" name="圆角矩形 22535"/>
            <p:cNvSpPr/>
            <p:nvPr/>
          </p:nvSpPr>
          <p:spPr>
            <a:xfrm>
              <a:off x="3657960" y="2742840"/>
              <a:ext cx="2329560" cy="93960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气管炎、支气管炎、中耳炎等并发症和原发疾病恶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肘形连接符 22536"/>
            <p:cNvCxnSpPr>
              <a:stCxn id="260" idx="0"/>
              <a:endCxn id="257" idx="2"/>
            </p:cNvCxnSpPr>
            <p:nvPr/>
          </p:nvCxnSpPr>
          <p:spPr>
            <a:xfrm flipV="1">
              <a:off x="4815000" y="2004840"/>
              <a:ext cx="2880" cy="73152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262" name="圆角矩形 22537"/>
            <p:cNvSpPr/>
            <p:nvPr/>
          </p:nvSpPr>
          <p:spPr>
            <a:xfrm>
              <a:off x="6376320" y="2742840"/>
              <a:ext cx="2548080" cy="93960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传染给家人、朋友的担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3" name="肘形连接符 22538"/>
            <p:cNvCxnSpPr>
              <a:stCxn id="262" idx="0"/>
              <a:endCxn id="257" idx="2"/>
            </p:cNvCxnSpPr>
            <p:nvPr/>
          </p:nvCxnSpPr>
          <p:spPr>
            <a:xfrm flipH="1" flipV="1">
              <a:off x="4814280" y="2011320"/>
              <a:ext cx="2829240" cy="73152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  <p:sp>
        <p:nvSpPr>
          <p:cNvPr id="264" name="下箭头 22539"/>
          <p:cNvSpPr/>
          <p:nvPr/>
        </p:nvSpPr>
        <p:spPr>
          <a:xfrm>
            <a:off x="3124080" y="4038480"/>
            <a:ext cx="9144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下箭头 22540"/>
          <p:cNvSpPr/>
          <p:nvPr/>
        </p:nvSpPr>
        <p:spPr>
          <a:xfrm>
            <a:off x="7238880" y="411480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形标注 22541"/>
          <p:cNvSpPr/>
          <p:nvPr/>
        </p:nvSpPr>
        <p:spPr>
          <a:xfrm>
            <a:off x="1523880" y="5029200"/>
            <a:ext cx="373392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22542"/>
          <p:cNvSpPr/>
          <p:nvPr/>
        </p:nvSpPr>
        <p:spPr>
          <a:xfrm>
            <a:off x="2286000" y="5257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患者的健康、睡眠、工作、学习和社交；增加患者经济负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形标注 22543"/>
          <p:cNvSpPr/>
          <p:nvPr/>
        </p:nvSpPr>
        <p:spPr>
          <a:xfrm>
            <a:off x="6400800" y="5181480"/>
            <a:ext cx="2133720" cy="1143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增加患者心理负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冒带来的巨大社会经济负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3554"/>
          <p:cNvSpPr/>
          <p:nvPr/>
        </p:nvSpPr>
        <p:spPr>
          <a:xfrm>
            <a:off x="1295280" y="1143000"/>
            <a:ext cx="367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8440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增加社会卫生经济负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降低社会生产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3555"/>
          <p:cNvSpPr/>
          <p:nvPr/>
        </p:nvSpPr>
        <p:spPr>
          <a:xfrm>
            <a:off x="1293840" y="23670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普通感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右箭头 23556"/>
          <p:cNvSpPr/>
          <p:nvPr/>
        </p:nvSpPr>
        <p:spPr>
          <a:xfrm flipV="1">
            <a:off x="3122640" y="2366280"/>
            <a:ext cx="53352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3557"/>
          <p:cNvSpPr/>
          <p:nvPr/>
        </p:nvSpPr>
        <p:spPr>
          <a:xfrm>
            <a:off x="3808440" y="23670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误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+4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误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3558"/>
          <p:cNvSpPr/>
          <p:nvPr/>
        </p:nvSpPr>
        <p:spPr>
          <a:xfrm>
            <a:off x="4114800" y="2443320"/>
            <a:ext cx="297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下箭头 23559"/>
          <p:cNvSpPr/>
          <p:nvPr/>
        </p:nvSpPr>
        <p:spPr>
          <a:xfrm rot="1980000">
            <a:off x="4838760" y="2987640"/>
            <a:ext cx="368280" cy="800280"/>
          </a:xfrm>
          <a:prstGeom prst="downArrow">
            <a:avLst>
              <a:gd name="adj1" fmla="val 50000"/>
              <a:gd name="adj2" fmla="val 28501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3560"/>
          <p:cNvSpPr/>
          <p:nvPr/>
        </p:nvSpPr>
        <p:spPr>
          <a:xfrm>
            <a:off x="1600200" y="3657600"/>
            <a:ext cx="68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84400">
              <a:lnSpc>
                <a:spcPct val="2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年导致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天的误学及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天的误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lnSpc>
                <a:spcPct val="2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年因普通感冒就诊人次为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人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lnSpc>
                <a:spcPct val="2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年用于缓解咳嗽等感冒症状的非处方药物花费近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美元，而抗菌药物的使用花费近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.7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美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并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4578"/>
          <p:cNvSpPr/>
          <p:nvPr/>
        </p:nvSpPr>
        <p:spPr>
          <a:xfrm>
            <a:off x="1231920" y="1635120"/>
            <a:ext cx="742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是最常见的急性呼吸道感染性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普通感冒并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据国内外资料报告，普通感冒可造成的严重社会和经济负担，并可产生严重的并发症，甚至威胁到生命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4579"/>
          <p:cNvSpPr/>
          <p:nvPr/>
        </p:nvSpPr>
        <p:spPr>
          <a:xfrm>
            <a:off x="2743200" y="4876920"/>
            <a:ext cx="62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2011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年《普通感冒规范诊治的专家共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导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1677960"/>
            <a:ext cx="747072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0f9e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急性上呼吸道感染简称上感，又称普通感冒。是包括鼻腔、咽或喉部急性炎症的总称。广义的上感不是一个疾病诊断，而是一组疾病，包括普通感冒、病毒性咽炎、喉炎、扁桃体炎等多种疾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0f9e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对于该疾病</a:t>
            </a:r>
            <a:r>
              <a:rPr b="0" lang="zh-CN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80%</a:t>
            </a:r>
            <a:r>
              <a:rPr b="0" lang="zh-CN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的患者都选择使用抗菌药物，</a:t>
            </a:r>
            <a:r>
              <a:rPr b="0" lang="zh-CN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90%</a:t>
            </a:r>
            <a:r>
              <a:rPr b="0" lang="zh-CN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的患者都习惯向医生索要抗菌药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0f9e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因此，正确合理用药，特别是抗生素的意义   重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708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⑤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治疗存在诸多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5602"/>
          <p:cNvSpPr/>
          <p:nvPr/>
        </p:nvSpPr>
        <p:spPr>
          <a:xfrm>
            <a:off x="3270240" y="1373040"/>
            <a:ext cx="5289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，在我国，治疗一般的发热感冒，有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使用抗菌药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患者认为抗菌药物能治感冒，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%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感冒病人习惯向医生索要抗菌药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5603"/>
          <p:cNvSpPr/>
          <p:nvPr/>
        </p:nvSpPr>
        <p:spPr>
          <a:xfrm>
            <a:off x="3270240" y="3143160"/>
            <a:ext cx="5241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市面上的抗感冒药虽然药品名称不同，但药物组成类似，使用多种感冒药时易造成重复用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复方制剂成分越多越好，不对症选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5604"/>
          <p:cNvSpPr/>
          <p:nvPr/>
        </p:nvSpPr>
        <p:spPr>
          <a:xfrm>
            <a:off x="3270240" y="4638600"/>
            <a:ext cx="52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尚无专门针对普通感冒的特异性抗病毒药物，普通感冒无需使用抗病毒药物治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度应用抗病毒药物有增加相关副作用的风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五边形 25605"/>
          <p:cNvSpPr/>
          <p:nvPr/>
        </p:nvSpPr>
        <p:spPr>
          <a:xfrm>
            <a:off x="1068480" y="1676520"/>
            <a:ext cx="2055600" cy="838080"/>
          </a:xfrm>
          <a:custGeom>
            <a:avLst/>
            <a:gdLst>
              <a:gd name="textAreaLeft" fmla="*/ 0 w 2055600"/>
              <a:gd name="textAreaRight" fmla="*/ 2055960 w 20556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5606"/>
          <p:cNvSpPr/>
          <p:nvPr/>
        </p:nvSpPr>
        <p:spPr>
          <a:xfrm>
            <a:off x="1066680" y="1905120"/>
            <a:ext cx="16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微软雅黑"/>
                <a:ea typeface="微软雅黑"/>
              </a:rPr>
              <a:t>滥用抗菌药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五边形 25607"/>
          <p:cNvSpPr/>
          <p:nvPr/>
        </p:nvSpPr>
        <p:spPr>
          <a:xfrm>
            <a:off x="1066680" y="3276720"/>
            <a:ext cx="2133720" cy="106668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5608"/>
          <p:cNvSpPr/>
          <p:nvPr/>
        </p:nvSpPr>
        <p:spPr>
          <a:xfrm>
            <a:off x="1143000" y="3352680"/>
            <a:ext cx="16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微软雅黑"/>
                <a:ea typeface="微软雅黑"/>
              </a:rPr>
              <a:t>复方药物不恰当联合，重复用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五边形 25609"/>
          <p:cNvSpPr/>
          <p:nvPr/>
        </p:nvSpPr>
        <p:spPr>
          <a:xfrm>
            <a:off x="1066680" y="4952880"/>
            <a:ext cx="2095560" cy="6858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04" y="0"/>
                </a:lnTo>
                <a:lnTo>
                  <a:pt x="21600" y="10800"/>
                </a:lnTo>
                <a:lnTo>
                  <a:pt x="161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5610"/>
          <p:cNvSpPr/>
          <p:nvPr/>
        </p:nvSpPr>
        <p:spPr>
          <a:xfrm>
            <a:off x="1143000" y="510552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微软雅黑"/>
                <a:ea typeface="微软雅黑"/>
              </a:rPr>
              <a:t>使用抗病毒药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⑥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规范诊治的专家共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95280" y="1371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下箭头 26627"/>
          <p:cNvSpPr/>
          <p:nvPr/>
        </p:nvSpPr>
        <p:spPr>
          <a:xfrm>
            <a:off x="4724280" y="2590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棒 650"/>
          <p:cNvSpPr/>
          <p:nvPr/>
        </p:nvSpPr>
        <p:spPr>
          <a:xfrm>
            <a:off x="2514600" y="3200400"/>
            <a:ext cx="5486400" cy="762120"/>
          </a:xfrm>
          <a:prstGeom prst="roundRect">
            <a:avLst>
              <a:gd name="adj" fmla="val 50000"/>
            </a:avLst>
          </a:prstGeom>
          <a:solidFill>
            <a:srgbClr val="3b8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6629"/>
          <p:cNvSpPr/>
          <p:nvPr/>
        </p:nvSpPr>
        <p:spPr>
          <a:xfrm>
            <a:off x="289548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0f9e3"/>
                </a:solidFill>
                <a:latin typeface="Arial"/>
                <a:ea typeface="宋体"/>
              </a:rPr>
              <a:t>《普通感冒规范诊治的专家共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流程图: 可选过程 26630"/>
          <p:cNvSpPr/>
          <p:nvPr/>
        </p:nvSpPr>
        <p:spPr>
          <a:xfrm>
            <a:off x="2362320" y="4800600"/>
            <a:ext cx="5943600" cy="1600200"/>
          </a:xfrm>
          <a:prstGeom prst="flowChartAlternateProcess">
            <a:avLst/>
          </a:prstGeom>
          <a:solidFill>
            <a:srgbClr val="3b8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下箭头 26631"/>
          <p:cNvSpPr/>
          <p:nvPr/>
        </p:nvSpPr>
        <p:spPr>
          <a:xfrm>
            <a:off x="4800600" y="4114800"/>
            <a:ext cx="7621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6632"/>
          <p:cNvSpPr/>
          <p:nvPr/>
        </p:nvSpPr>
        <p:spPr>
          <a:xfrm>
            <a:off x="2743200" y="50292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6633"/>
          <p:cNvSpPr/>
          <p:nvPr/>
        </p:nvSpPr>
        <p:spPr>
          <a:xfrm>
            <a:off x="2590920" y="4952880"/>
            <a:ext cx="556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84400">
              <a:buClr>
                <a:srgbClr val="f0f9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f9e3"/>
                </a:solidFill>
                <a:latin typeface="Arial"/>
                <a:ea typeface="宋体"/>
              </a:rPr>
              <a:t>规范普通感冒的诊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buClr>
                <a:srgbClr val="f0f9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f9e3"/>
                </a:solidFill>
                <a:latin typeface="Arial"/>
                <a:ea typeface="宋体"/>
              </a:rPr>
              <a:t>指导正确合理用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buClr>
                <a:srgbClr val="f0f9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f9e3"/>
                </a:solidFill>
                <a:latin typeface="Arial"/>
                <a:ea typeface="宋体"/>
              </a:rPr>
              <a:t>提高普通感冒的治疗水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buClr>
                <a:srgbClr val="f0f9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f9e3"/>
                </a:solidFill>
                <a:latin typeface="Arial"/>
                <a:ea typeface="宋体"/>
              </a:rPr>
              <a:t>降低医疗成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流程图: 过程 26634"/>
          <p:cNvSpPr/>
          <p:nvPr/>
        </p:nvSpPr>
        <p:spPr>
          <a:xfrm>
            <a:off x="1600200" y="1295280"/>
            <a:ext cx="6629400" cy="11430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26635"/>
          <p:cNvSpPr/>
          <p:nvPr/>
        </p:nvSpPr>
        <p:spPr>
          <a:xfrm>
            <a:off x="2022480" y="144792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共识编撰专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——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医师协会呼吸医师分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——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医师协会急诊医师分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普通感冒规范诊治的专家共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7650"/>
          <p:cNvSpPr/>
          <p:nvPr/>
        </p:nvSpPr>
        <p:spPr>
          <a:xfrm>
            <a:off x="1143000" y="1981080"/>
            <a:ext cx="5286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27651"/>
          <p:cNvSpPr/>
          <p:nvPr/>
        </p:nvSpPr>
        <p:spPr>
          <a:xfrm>
            <a:off x="1324080" y="1944720"/>
            <a:ext cx="667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3416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普通感冒流行病学与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普通感冒临床特征与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普通感冒诊断与治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的病原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大部分由病毒引起的，鼻病毒是引起普通感冒最常见的病原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38080" y="1905120"/>
            <a:ext cx="7620120" cy="360"/>
            <a:chOff x="838080" y="1905120"/>
            <a:chExt cx="7620120" cy="360"/>
          </a:xfrm>
        </p:grpSpPr>
        <p:sp>
          <p:nvSpPr>
            <p:cNvPr id="307" name="直接连接符 28675"/>
            <p:cNvSpPr/>
            <p:nvPr/>
          </p:nvSpPr>
          <p:spPr>
            <a:xfrm>
              <a:off x="838080" y="1905120"/>
              <a:ext cx="76201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838080" y="1905120"/>
              <a:ext cx="762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248520" y="1905120"/>
            <a:ext cx="360" cy="3124080"/>
            <a:chOff x="6248520" y="1905120"/>
            <a:chExt cx="360" cy="3124080"/>
          </a:xfrm>
        </p:grpSpPr>
        <p:sp>
          <p:nvSpPr>
            <p:cNvPr id="310" name="直接连接符 28676"/>
            <p:cNvSpPr/>
            <p:nvPr/>
          </p:nvSpPr>
          <p:spPr>
            <a:xfrm>
              <a:off x="6248520" y="1905120"/>
              <a:ext cx="0" cy="3124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6248520" y="1905120"/>
              <a:ext cx="360" cy="31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38080" y="5029200"/>
            <a:ext cx="7772400" cy="1440"/>
            <a:chOff x="838080" y="5029200"/>
            <a:chExt cx="7772400" cy="1440"/>
          </a:xfrm>
        </p:grpSpPr>
        <p:sp>
          <p:nvSpPr>
            <p:cNvPr id="313" name="直接连接符 28677"/>
            <p:cNvSpPr/>
            <p:nvPr/>
          </p:nvSpPr>
          <p:spPr>
            <a:xfrm>
              <a:off x="838080" y="5029200"/>
              <a:ext cx="77724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838080" y="5029200"/>
              <a:ext cx="77724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文本框 28678"/>
          <p:cNvSpPr/>
          <p:nvPr/>
        </p:nvSpPr>
        <p:spPr>
          <a:xfrm>
            <a:off x="1143000" y="1905120"/>
            <a:ext cx="464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b8de9"/>
                </a:solidFill>
                <a:latin typeface="Arial"/>
                <a:ea typeface="宋体"/>
              </a:rPr>
              <a:t>普通感冒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鼻病毒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30%~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461bc3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  <a:ea typeface="宋体"/>
              </a:rPr>
              <a:t>冠状病毒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  <a:ea typeface="宋体"/>
              </a:rPr>
              <a:t>10%~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  <a:ea typeface="宋体"/>
              </a:rPr>
              <a:t>呼吸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  <a:ea typeface="宋体"/>
              </a:rPr>
              <a:t>10%~15%</a:t>
            </a:r>
            <a:r>
              <a:rPr b="0" lang="zh-CN" sz="1800" spc="-1" strike="noStrike">
                <a:solidFill>
                  <a:srgbClr val="461bc3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  <a:ea typeface="宋体"/>
              </a:rPr>
              <a:t>合胞病毒  腺病毒   副流感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  <a:ea typeface="宋体"/>
              </a:rPr>
              <a:t>未知病毒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  <a:ea typeface="宋体"/>
              </a:rPr>
              <a:t>30%~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右箭头 28679"/>
          <p:cNvSpPr/>
          <p:nvPr/>
        </p:nvSpPr>
        <p:spPr>
          <a:xfrm>
            <a:off x="2971800" y="25909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右箭头 28680"/>
          <p:cNvSpPr/>
          <p:nvPr/>
        </p:nvSpPr>
        <p:spPr>
          <a:xfrm>
            <a:off x="3048120" y="31240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3b8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右箭头 28681"/>
          <p:cNvSpPr/>
          <p:nvPr/>
        </p:nvSpPr>
        <p:spPr>
          <a:xfrm>
            <a:off x="3124080" y="36576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3b8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8682"/>
          <p:cNvSpPr/>
          <p:nvPr/>
        </p:nvSpPr>
        <p:spPr>
          <a:xfrm>
            <a:off x="6505560" y="2198520"/>
            <a:ext cx="2333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de9"/>
                </a:solidFill>
                <a:latin typeface="Arial"/>
                <a:ea typeface="宋体"/>
              </a:rPr>
              <a:t>流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de9"/>
                </a:solidFill>
                <a:latin typeface="Arial"/>
                <a:ea typeface="宋体"/>
              </a:rPr>
              <a:t>流感病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的病理生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09600" y="1371600"/>
            <a:ext cx="37339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61bc3"/>
                </a:solidFill>
                <a:latin typeface="Arial"/>
              </a:rPr>
              <a:t>病毒进入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61bc3"/>
                </a:solidFill>
                <a:latin typeface="Arial"/>
              </a:rPr>
              <a:t>病毒进入呼吸道细胞中，与气道上皮细胞异性结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61bc3"/>
                </a:solidFill>
                <a:latin typeface="Arial"/>
              </a:rPr>
              <a:t>病毒在呼吸道上的上皮细胞及局部淋巴组织中复制，引起细胞病变及炎症反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61bc3"/>
                </a:solidFill>
                <a:latin typeface="Arial"/>
              </a:rPr>
              <a:t>释放各种炎症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61bc3"/>
                </a:solidFill>
                <a:latin typeface="Arial"/>
              </a:rPr>
              <a:t>各种感冒症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下箭头 29699"/>
          <p:cNvSpPr/>
          <p:nvPr/>
        </p:nvSpPr>
        <p:spPr>
          <a:xfrm>
            <a:off x="4191120" y="16765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下箭头 29700"/>
          <p:cNvSpPr/>
          <p:nvPr/>
        </p:nvSpPr>
        <p:spPr>
          <a:xfrm>
            <a:off x="4191120" y="27432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下箭头 29701"/>
          <p:cNvSpPr/>
          <p:nvPr/>
        </p:nvSpPr>
        <p:spPr>
          <a:xfrm>
            <a:off x="4191120" y="39625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下箭头 29702"/>
          <p:cNvSpPr/>
          <p:nvPr/>
        </p:nvSpPr>
        <p:spPr>
          <a:xfrm>
            <a:off x="4191120" y="48006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的不同症状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鼻部卡他症状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鼻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打喷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流鼻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全身症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发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头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关节痛（四肢酸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咳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的病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流程图: 过程 31746"/>
          <p:cNvSpPr/>
          <p:nvPr/>
        </p:nvSpPr>
        <p:spPr>
          <a:xfrm>
            <a:off x="1371600" y="1523880"/>
            <a:ext cx="7238880" cy="44960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1747"/>
          <p:cNvSpPr/>
          <p:nvPr/>
        </p:nvSpPr>
        <p:spPr>
          <a:xfrm>
            <a:off x="1676520" y="1981080"/>
            <a:ext cx="68371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并发症的普通感冒，一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~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可以痊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老年人和儿童容易出现感冒并发症。若伴有基础疾病的普通感冒患者则临床症状较重且迁延，容易出现并发症使病程延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0f9e3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0f9e3"/>
                </a:solidFill>
                <a:latin typeface="Arial"/>
                <a:ea typeface="宋体"/>
              </a:rPr>
              <a:t>2011</a:t>
            </a:r>
            <a:r>
              <a:rPr b="1" lang="zh-CN" sz="2400" spc="-1" strike="noStrike">
                <a:solidFill>
                  <a:srgbClr val="f0f9e3"/>
                </a:solidFill>
                <a:latin typeface="Arial"/>
                <a:ea typeface="宋体"/>
              </a:rPr>
              <a:t>年《普通感冒规范诊治的专家共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通感冒的实验室检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周血象：白细胞总数不高或者偏低，淋巴细胞比例相对增加，重症患者可有白细胞总数及淋巴细胞下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毒学的检查：临床上一般不需要普通感冒的病毒性检查，主要用作流行病学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普通感冒的规范诊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3794"/>
          <p:cNvSpPr/>
          <p:nvPr/>
        </p:nvSpPr>
        <p:spPr>
          <a:xfrm>
            <a:off x="1143000" y="1981080"/>
            <a:ext cx="5286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3795"/>
          <p:cNvSpPr/>
          <p:nvPr/>
        </p:nvSpPr>
        <p:spPr>
          <a:xfrm>
            <a:off x="1324080" y="1944720"/>
            <a:ext cx="667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3416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普通感冒流行病学与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普通感冒临床特征与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普通感冒诊断与治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诊断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流程图: 过程 34818"/>
          <p:cNvSpPr/>
          <p:nvPr/>
        </p:nvSpPr>
        <p:spPr>
          <a:xfrm>
            <a:off x="1371600" y="1523880"/>
            <a:ext cx="7238880" cy="44960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34819"/>
          <p:cNvSpPr/>
          <p:nvPr/>
        </p:nvSpPr>
        <p:spPr>
          <a:xfrm>
            <a:off x="1676520" y="1981080"/>
            <a:ext cx="68371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45576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通感冒主要依据典型的临床症状诊断，并在排除其他疾病的前提下确定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0f9e3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0f9e3"/>
                </a:solidFill>
                <a:latin typeface="Arial"/>
                <a:ea typeface="宋体"/>
              </a:rPr>
              <a:t>2011</a:t>
            </a:r>
            <a:r>
              <a:rPr b="1" lang="zh-CN" sz="2400" spc="-1" strike="noStrike">
                <a:solidFill>
                  <a:srgbClr val="f0f9e3"/>
                </a:solidFill>
                <a:latin typeface="Arial"/>
                <a:ea typeface="宋体"/>
              </a:rPr>
              <a:t>年《普通感冒规范诊治的专家共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等腰三角形 5"/>
          <p:cNvSpPr/>
          <p:nvPr/>
        </p:nvSpPr>
        <p:spPr>
          <a:xfrm>
            <a:off x="982800" y="2681280"/>
            <a:ext cx="1895400" cy="1635120"/>
          </a:xfrm>
          <a:prstGeom prst="triangle">
            <a:avLst>
              <a:gd name="adj" fmla="val 50000"/>
            </a:avLst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等腰三角形 6"/>
          <p:cNvSpPr/>
          <p:nvPr/>
        </p:nvSpPr>
        <p:spPr>
          <a:xfrm>
            <a:off x="763560" y="2422440"/>
            <a:ext cx="2333520" cy="20131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99ee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9"/>
          <p:cNvSpPr/>
          <p:nvPr/>
        </p:nvSpPr>
        <p:spPr>
          <a:xfrm>
            <a:off x="1930320" y="0"/>
            <a:ext cx="0" cy="2422440"/>
          </a:xfrm>
          <a:prstGeom prst="line">
            <a:avLst/>
          </a:prstGeom>
          <a:ln w="6480">
            <a:solidFill>
              <a:srgbClr val="0099ee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22"/>
          <p:cNvSpPr/>
          <p:nvPr/>
        </p:nvSpPr>
        <p:spPr>
          <a:xfrm>
            <a:off x="1930320" y="4448160"/>
            <a:ext cx="0" cy="2413080"/>
          </a:xfrm>
          <a:prstGeom prst="line">
            <a:avLst/>
          </a:prstGeom>
          <a:ln w="6480">
            <a:solidFill>
              <a:srgbClr val="0099ee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1"/>
          <p:cNvSpPr/>
          <p:nvPr/>
        </p:nvSpPr>
        <p:spPr>
          <a:xfrm>
            <a:off x="3274920" y="1905120"/>
            <a:ext cx="54054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50000"/>
              </a:lnSpc>
              <a:buClr>
                <a:srgbClr val="0081c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1c8"/>
                </a:solidFill>
                <a:latin typeface="微软雅黑"/>
                <a:ea typeface="微软雅黑"/>
              </a:rPr>
              <a:t>熟悉上呼吸道感染的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50000"/>
              </a:lnSpc>
              <a:buClr>
                <a:srgbClr val="0081c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1c8"/>
                </a:solidFill>
                <a:latin typeface="微软雅黑"/>
                <a:ea typeface="微软雅黑"/>
              </a:rPr>
              <a:t>了解上呼吸道感染的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50000"/>
              </a:lnSpc>
              <a:buClr>
                <a:srgbClr val="0081c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1c8"/>
                </a:solidFill>
                <a:latin typeface="微软雅黑"/>
                <a:ea typeface="微软雅黑"/>
              </a:rPr>
              <a:t>掌握上呼吸道感染抗生素使用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感冒与季节性流感的鉴别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19320" y="1295280"/>
          <a:ext cx="7391160" cy="5457960"/>
        </p:xfrm>
        <a:graphic>
          <a:graphicData uri="http://schemas.openxmlformats.org/drawingml/2006/table">
            <a:tbl>
              <a:tblPr/>
              <a:tblGrid>
                <a:gridCol w="1341000"/>
                <a:gridCol w="2895840"/>
                <a:gridCol w="315432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症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普通感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季节性流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发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少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鼻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很常见，且通常在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周内症状自然缓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打喷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咽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头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少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非常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咳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通常为间断的、排痰性咳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通常为间断性干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寒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少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有轻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中度恶寒症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疲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疲倦症状较轻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通常为中度疲倦，且常伴有乏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胸部不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轻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中度胸部不适，如果症状加重，请马上就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的治疗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流程图: 过程 36866"/>
          <p:cNvSpPr/>
          <p:nvPr/>
        </p:nvSpPr>
        <p:spPr>
          <a:xfrm>
            <a:off x="1371600" y="1523880"/>
            <a:ext cx="7238880" cy="44960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36867"/>
          <p:cNvSpPr/>
          <p:nvPr/>
        </p:nvSpPr>
        <p:spPr>
          <a:xfrm>
            <a:off x="1676520" y="1981080"/>
            <a:ext cx="6837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45576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对症治疗、缓解感冒症状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45576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时注意休息、适当补充水分、保持室内空气流通，避免继发性细菌感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45576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目前尚无特效的抗病毒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0f9e3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f0f9e3"/>
                </a:solidFill>
                <a:latin typeface="Arial"/>
                <a:ea typeface="宋体"/>
              </a:rPr>
              <a:t>2011</a:t>
            </a:r>
            <a:r>
              <a:rPr b="1" lang="zh-CN" sz="2800" spc="-1" strike="noStrike">
                <a:solidFill>
                  <a:srgbClr val="f0f9e3"/>
                </a:solidFill>
                <a:latin typeface="Arial"/>
                <a:ea typeface="宋体"/>
              </a:rPr>
              <a:t>年《普通感冒规范诊治的专家共识</a:t>
            </a:r>
            <a:r>
              <a:rPr b="1" lang="zh-CN" sz="2400" spc="-1" strike="noStrike">
                <a:solidFill>
                  <a:srgbClr val="f0f9e3"/>
                </a:solidFill>
                <a:latin typeface="Arial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通感冒对症治疗常用药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143000" y="1371600"/>
          <a:ext cx="7467480" cy="495288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针对症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充血剂（盐酸伪麻黄碱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鼻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抗过敏药（扑尔敏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苯海拉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流涕、打喷嚏、流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解热镇痛药（对乙酰氨基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布洛芬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发热、咽喉痛、全身酸痛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镇咳药物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右美沙芬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可待因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咳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祛痰药物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愈创木酚甘油醚、氨溴索、溴已新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祛痰，提高咳嗽对气道分泌物的清除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抗感染药物合理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生素对病毒引起的普通感冒疗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生素：扰乱体内菌群平衡、细菌产生抗药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造成抗生素使用泛滥的原因有几个：人们想把抗生素当做万灵药；医师想满足患者的期望；难以区别抗生素所带来的并发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前没有有效的抗病毒的药物可用于治疗普通感冒，相关药物正在研究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抗感染药物合理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341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抗生素合理使用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普通感冒不宜给予抗生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症治疗居首要地位，包括休息、供应充足水分、退热、减轻卡他症状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鼻分泌物呈粘稠不透明或变色，仍可能是病毒性鼻窦炎，无需用抗生素，除非这种症状持续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~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无改善，或反而加重，或伴发热、白细胞增高、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反应蛋白增高等，考虑细菌感染，在积极的找感染部位的同时，加用抗生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诊治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感冒是最常见的急性上呼吸道感染性疾病，可造成沉重的社会和经济负担，并可产生严重的并发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普通感冒规范诊治的专家共识》旨在规范普通感冒的诊治，指导合理用药，从而提高普通感冒的诊治水平，降低医疗成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典型病例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儿，男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体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k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支气管炎。给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头孢曲松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地塞米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加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%GNS25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静滴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，患儿出现烦躁、流涕、口吐白沫、口唇发绀，立即关闭输液，肌注肾上腺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静脉推注地塞米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吸入氧气，经再次注射肾上腺素，进行人工呼吸胸外心脏按压等急救措施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抢救无效，患儿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典型病例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双硫仑样反应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者男性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因支气管炎就诊。给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头孢哌酮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连续用药三天，症状好转后停药，患者于停药的第二天饮白酒半小时后 ，出现胸闷、心悸、头晕、呼吸困难，呈进行性加重，出现面色苍白，大汗淋漓，口唇发绀、烦躁不安。入院后立即给予吸氧、开通静脉通道，给予地塞米松、纳诺酮等静脉注射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后患者临床症状逐渐好转，血压开始上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呼吸道感染的临床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抗生素应用的基本原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呼吸道感染的预防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b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985"/>
          <p:cNvSpPr txBox="1"/>
          <p:nvPr/>
        </p:nvSpPr>
        <p:spPr>
          <a:xfrm>
            <a:off x="2209680" y="342900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6633"/>
                    </a:gs>
                    <a:gs pos="100000">
                      <a:srgbClr val="75cbc7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6633"/>
                  </a:gs>
                  <a:gs pos="100000">
                    <a:srgbClr val="75cbc7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800600" y="1676160"/>
            <a:ext cx="4038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3"/>
          <p:cNvSpPr/>
          <p:nvPr/>
        </p:nvSpPr>
        <p:spPr>
          <a:xfrm>
            <a:off x="1523880" y="2971800"/>
            <a:ext cx="6551640" cy="741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1371600" y="2057400"/>
            <a:ext cx="7016760" cy="1684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>
              <a:lnSpc>
                <a:spcPct val="200000"/>
              </a:lnSpc>
              <a:buClr>
                <a:srgbClr val="6e852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52c"/>
                </a:solidFill>
                <a:latin typeface="微软雅黑"/>
                <a:ea typeface="微软雅黑"/>
              </a:rPr>
              <a:t>概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buClr>
                <a:srgbClr val="6e852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52c"/>
                </a:solidFill>
                <a:latin typeface="微软雅黑"/>
                <a:ea typeface="微软雅黑"/>
              </a:rPr>
              <a:t>普通感冒指南及抗菌药物的合理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52c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6e852c"/>
                </a:solidFill>
                <a:latin typeface="微软雅黑"/>
                <a:ea typeface="微软雅黑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"/>
          <p:cNvSpPr/>
          <p:nvPr/>
        </p:nvSpPr>
        <p:spPr>
          <a:xfrm>
            <a:off x="1738080" y="380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概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16"/>
          <p:cNvSpPr/>
          <p:nvPr/>
        </p:nvSpPr>
        <p:spPr>
          <a:xfrm>
            <a:off x="838080" y="32004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buClr>
                <a:srgbClr val="3b8de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de9"/>
                </a:solidFill>
                <a:latin typeface="微软雅黑"/>
                <a:ea typeface="微软雅黑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18"/>
          <p:cNvSpPr/>
          <p:nvPr/>
        </p:nvSpPr>
        <p:spPr>
          <a:xfrm rot="9232800">
            <a:off x="7206480" y="2453760"/>
            <a:ext cx="266760" cy="230400"/>
          </a:xfrm>
          <a:prstGeom prst="triangle">
            <a:avLst>
              <a:gd name="adj" fmla="val 50000"/>
            </a:avLst>
          </a:prstGeom>
          <a:solidFill>
            <a:srgbClr val="d8e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等腰三角形 19"/>
          <p:cNvSpPr/>
          <p:nvPr/>
        </p:nvSpPr>
        <p:spPr>
          <a:xfrm rot="15569400">
            <a:off x="6854400" y="3128760"/>
            <a:ext cx="396720" cy="34308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等腰三角形 20"/>
          <p:cNvSpPr/>
          <p:nvPr/>
        </p:nvSpPr>
        <p:spPr>
          <a:xfrm rot="21370800">
            <a:off x="6723000" y="1804680"/>
            <a:ext cx="266760" cy="23004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等腰三角形 21"/>
          <p:cNvSpPr/>
          <p:nvPr/>
        </p:nvSpPr>
        <p:spPr>
          <a:xfrm rot="12912000">
            <a:off x="7764480" y="3486960"/>
            <a:ext cx="944640" cy="816120"/>
          </a:xfrm>
          <a:prstGeom prst="triangle">
            <a:avLst>
              <a:gd name="adj" fmla="val 50000"/>
            </a:avLst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等腰三角形 22"/>
          <p:cNvSpPr/>
          <p:nvPr/>
        </p:nvSpPr>
        <p:spPr>
          <a:xfrm rot="12912000">
            <a:off x="7632720" y="3426840"/>
            <a:ext cx="1176480" cy="10141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b8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23"/>
          <p:cNvSpPr/>
          <p:nvPr/>
        </p:nvSpPr>
        <p:spPr>
          <a:xfrm rot="9109800">
            <a:off x="8952840" y="3792240"/>
            <a:ext cx="11412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4"/>
          <p:cNvSpPr/>
          <p:nvPr/>
        </p:nvSpPr>
        <p:spPr>
          <a:xfrm rot="9109800">
            <a:off x="7864560" y="4295880"/>
            <a:ext cx="11592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5"/>
          <p:cNvSpPr/>
          <p:nvPr/>
        </p:nvSpPr>
        <p:spPr>
          <a:xfrm rot="9109800">
            <a:off x="7981560" y="3132000"/>
            <a:ext cx="11448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等腰三角形 26"/>
          <p:cNvSpPr/>
          <p:nvPr/>
        </p:nvSpPr>
        <p:spPr>
          <a:xfrm rot="18210000">
            <a:off x="6314040" y="2162520"/>
            <a:ext cx="127080" cy="109440"/>
          </a:xfrm>
          <a:prstGeom prst="triangle">
            <a:avLst>
              <a:gd name="adj" fmla="val 50000"/>
            </a:avLst>
          </a:prstGeom>
          <a:solidFill>
            <a:srgbClr val="d8e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等腰三角形 27"/>
          <p:cNvSpPr/>
          <p:nvPr/>
        </p:nvSpPr>
        <p:spPr>
          <a:xfrm rot="8748000">
            <a:off x="6671880" y="2314080"/>
            <a:ext cx="128520" cy="10980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3"/>
          <p:cNvSpPr/>
          <p:nvPr/>
        </p:nvSpPr>
        <p:spPr>
          <a:xfrm flipH="1">
            <a:off x="0" y="4110120"/>
            <a:ext cx="6732720" cy="0"/>
          </a:xfrm>
          <a:prstGeom prst="line">
            <a:avLst/>
          </a:prstGeom>
          <a:ln cap="sq" w="19080">
            <a:solidFill>
              <a:srgbClr val="3b8de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6"/>
          <p:cNvSpPr/>
          <p:nvPr/>
        </p:nvSpPr>
        <p:spPr>
          <a:xfrm>
            <a:off x="411804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2942"/>
                </a:solidFill>
                <a:latin typeface="微软雅黑"/>
                <a:ea typeface="微软雅黑"/>
              </a:rPr>
              <a:t>（一）发病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7"/>
          <p:cNvSpPr/>
          <p:nvPr/>
        </p:nvSpPr>
        <p:spPr>
          <a:xfrm>
            <a:off x="4545720" y="5259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2942"/>
                </a:solidFill>
                <a:latin typeface="微软雅黑"/>
                <a:ea typeface="微软雅黑"/>
              </a:rPr>
              <a:t>（五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8"/>
          <p:cNvSpPr/>
          <p:nvPr/>
        </p:nvSpPr>
        <p:spPr>
          <a:xfrm>
            <a:off x="4728600" y="35053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2942"/>
                </a:solidFill>
                <a:latin typeface="微软雅黑"/>
                <a:ea typeface="微软雅黑"/>
              </a:rPr>
              <a:t>（三）病因和发病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9"/>
          <p:cNvSpPr/>
          <p:nvPr/>
        </p:nvSpPr>
        <p:spPr>
          <a:xfrm>
            <a:off x="4423680" y="4419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2942"/>
                </a:solidFill>
                <a:latin typeface="微软雅黑"/>
                <a:ea typeface="微软雅黑"/>
              </a:rPr>
              <a:t>（四）病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20"/>
          <p:cNvSpPr/>
          <p:nvPr/>
        </p:nvSpPr>
        <p:spPr>
          <a:xfrm>
            <a:off x="163152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02942"/>
                </a:solidFill>
                <a:latin typeface="微软雅黑"/>
                <a:ea typeface="微软雅黑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1"/>
          <p:cNvGrpSpPr/>
          <p:nvPr/>
        </p:nvGrpSpPr>
        <p:grpSpPr>
          <a:xfrm>
            <a:off x="3189240" y="1122120"/>
            <a:ext cx="550440" cy="4724640"/>
            <a:chOff x="3189240" y="1122120"/>
            <a:chExt cx="550440" cy="4724640"/>
          </a:xfrm>
        </p:grpSpPr>
        <p:cxnSp>
          <p:nvCxnSpPr>
            <p:cNvPr id="173" name="直接箭头连接符 11265"/>
            <p:cNvCxnSpPr/>
            <p:nvPr/>
          </p:nvCxnSpPr>
          <p:spPr>
            <a:xfrm>
              <a:off x="3453120" y="1122120"/>
              <a:ext cx="1080" cy="4414680"/>
            </a:xfrm>
            <a:prstGeom prst="straightConnector1">
              <a:avLst/>
            </a:prstGeom>
            <a:ln w="19080">
              <a:solidFill>
                <a:srgbClr val="eea8b2"/>
              </a:solidFill>
              <a:miter/>
            </a:ln>
          </p:spPr>
        </p:cxnSp>
        <p:sp>
          <p:nvSpPr>
            <p:cNvPr id="174" name="任意多边形 21"/>
            <p:cNvSpPr/>
            <p:nvPr/>
          </p:nvSpPr>
          <p:spPr>
            <a:xfrm>
              <a:off x="3189240" y="1679760"/>
              <a:ext cx="533880" cy="620640"/>
            </a:xfrm>
            <a:prstGeom prst="pie">
              <a:avLst/>
            </a:prstGeom>
            <a:solidFill>
              <a:srgbClr val="d0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22"/>
            <p:cNvSpPr/>
            <p:nvPr/>
          </p:nvSpPr>
          <p:spPr>
            <a:xfrm>
              <a:off x="3189240" y="2557440"/>
              <a:ext cx="533880" cy="620640"/>
            </a:xfrm>
            <a:prstGeom prst="pie">
              <a:avLst/>
            </a:prstGeom>
            <a:solidFill>
              <a:srgbClr val="d0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23"/>
            <p:cNvSpPr/>
            <p:nvPr/>
          </p:nvSpPr>
          <p:spPr>
            <a:xfrm>
              <a:off x="3189240" y="3435480"/>
              <a:ext cx="533880" cy="620640"/>
            </a:xfrm>
            <a:prstGeom prst="pie">
              <a:avLst/>
            </a:prstGeom>
            <a:solidFill>
              <a:srgbClr val="d0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24"/>
            <p:cNvSpPr/>
            <p:nvPr/>
          </p:nvSpPr>
          <p:spPr>
            <a:xfrm>
              <a:off x="3189240" y="4313160"/>
              <a:ext cx="533880" cy="620640"/>
            </a:xfrm>
            <a:prstGeom prst="pie">
              <a:avLst/>
            </a:prstGeom>
            <a:solidFill>
              <a:srgbClr val="d0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21"/>
            <p:cNvSpPr/>
            <p:nvPr/>
          </p:nvSpPr>
          <p:spPr>
            <a:xfrm>
              <a:off x="3204000" y="5224320"/>
              <a:ext cx="535680" cy="622440"/>
            </a:xfrm>
            <a:prstGeom prst="pie">
              <a:avLst/>
            </a:prstGeom>
            <a:solidFill>
              <a:srgbClr val="d0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17"/>
          <p:cNvSpPr/>
          <p:nvPr/>
        </p:nvSpPr>
        <p:spPr>
          <a:xfrm>
            <a:off x="4118040" y="259092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2942"/>
                </a:solidFill>
                <a:latin typeface="微软雅黑"/>
                <a:ea typeface="微软雅黑"/>
              </a:rPr>
              <a:t>（二）流行病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病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43000" y="1371600"/>
            <a:ext cx="7763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包括鼻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咽、喉、气管和各级支气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常称鼻、咽、喉为上呼吸道，气管和各级支气管为下呼吸道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病不分年龄、性别、职业和地区，免疫功能低下者易感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常病情较轻、疗程短、可自愈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病率高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传染性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工作和生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伴有严重并发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病原体是病毒，少数是细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病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1447920"/>
            <a:ext cx="702936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见的传染病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发于冬春季节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飞沫传播，或接触传播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体大多为自然界中广泛存在的多种类型病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后产生的免疫力较弱、短暂，病毒之间也无交叉免疫，可反复发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因和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八边形 14338"/>
          <p:cNvSpPr/>
          <p:nvPr/>
        </p:nvSpPr>
        <p:spPr>
          <a:xfrm flipH="1">
            <a:off x="5333400" y="2895480"/>
            <a:ext cx="73080" cy="1447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八边形 14339"/>
          <p:cNvSpPr/>
          <p:nvPr/>
        </p:nvSpPr>
        <p:spPr>
          <a:xfrm flipH="1">
            <a:off x="7835040" y="2384280"/>
            <a:ext cx="71640" cy="1429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八边形 14340"/>
          <p:cNvSpPr/>
          <p:nvPr/>
        </p:nvSpPr>
        <p:spPr>
          <a:xfrm flipH="1">
            <a:off x="6253200" y="2384280"/>
            <a:ext cx="71280" cy="1429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4341"/>
          <p:cNvSpPr/>
          <p:nvPr/>
        </p:nvSpPr>
        <p:spPr>
          <a:xfrm>
            <a:off x="1371600" y="1447920"/>
            <a:ext cx="6892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～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由病毒引起：鼻病毒、冠状病毒、腺病毒、流感和副流感病毒以及呼吸道合胞病毒、埃可病毒和柯萨奇病毒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～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为细菌引起：溶血性链球菌、流感嗜血杆菌、肺炎链球菌和葡萄球菌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发病还取决于传播途径和人群易感性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雨、受凉、气候突变、过度劳累等可诱发本病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幼体弱，免疫功能低下或有慢性呼吸道疾病如鼻窦炎、扁桃体炎者更易发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29:23Z</dcterms:created>
  <dc:creator>Sung Ha, Park</dc:creator>
  <dc:description/>
  <cp:keywords/>
  <dc:language>en-US</dc:language>
  <cp:lastModifiedBy>User</cp:lastModifiedBy>
  <dcterms:modified xsi:type="dcterms:W3CDTF">2015-11-21T15:32:54Z</dcterms:modified>
  <cp:revision>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